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EB9EC-7D93-4571-9F12-366A60BC7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038EF-BD42-48C3-A77C-667529B6A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260B6-A56B-4CD7-8B81-722FA583E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8530C-10B4-47B7-A7D4-21FE2EFBA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A527B-D496-402A-9726-1E48FECA0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356C9-3662-46F5-8929-B9D45D58D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49C97-D461-4008-880B-EC980FBA3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AF5D4-5198-4A19-9A54-53E003EAF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1735E-BCCD-42E1-B77F-EE906E115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EF049-F27C-48FE-8BC5-FB6EC840D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EBE3A-6A94-4075-9B7E-4A052D21E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D2FEB-1D68-4A68-A20C-92D8B8C92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673A3-F2D1-400C-AB7E-1E5A083CA967}"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 and abstract writ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43" name="Picture 3" descr=""/>
          <p:cNvPicPr/>
          <p:nvPr/>
        </p:nvPicPr>
        <p:blipFill>
          <a:blip r:embed="rId1"/>
          <a:stretch/>
        </p:blipFill>
        <p:spPr>
          <a:xfrm>
            <a:off x="7000920" y="109440"/>
            <a:ext cx="2093760" cy="1481400"/>
          </a:xfrm>
          <a:prstGeom prst="rect">
            <a:avLst/>
          </a:prstGeom>
          <a:ln w="0">
            <a:noFill/>
          </a:ln>
        </p:spPr>
      </p:pic>
      <p:grpSp>
        <p:nvGrpSpPr>
          <p:cNvPr id="44" name="Group 4"/>
          <p:cNvGrpSpPr/>
          <p:nvPr/>
        </p:nvGrpSpPr>
        <p:grpSpPr>
          <a:xfrm>
            <a:off x="155520" y="6170760"/>
            <a:ext cx="1606680" cy="528480"/>
            <a:chOff x="155520" y="6170760"/>
            <a:chExt cx="1606680" cy="528480"/>
          </a:xfrm>
        </p:grpSpPr>
        <p:pic>
          <p:nvPicPr>
            <p:cNvPr id="45" name="Picture 5" descr="http://research.ncl.ac.uk/media/sites/researchwebsites/rescapmed/EUlogo.jpg"/>
            <p:cNvPicPr/>
            <p:nvPr/>
          </p:nvPicPr>
          <p:blipFill>
            <a:blip r:embed="rId2"/>
            <a:stretch/>
          </p:blipFill>
          <p:spPr>
            <a:xfrm>
              <a:off x="155520" y="6170760"/>
              <a:ext cx="811440" cy="528480"/>
            </a:xfrm>
            <a:prstGeom prst="rect">
              <a:avLst/>
            </a:prstGeom>
            <a:ln w="0">
              <a:noFill/>
            </a:ln>
          </p:spPr>
        </p:pic>
        <p:pic>
          <p:nvPicPr>
            <p:cNvPr id="46" name="Picture 6" descr="http://research.ncl.ac.uk/media/sites/researchwebsites/rescapmed/FP7logo2.jpg"/>
            <p:cNvPicPr/>
            <p:nvPr/>
          </p:nvPicPr>
          <p:blipFill>
            <a:blip r:embed="rId3"/>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eamlessly blend the elements of the text into one coherent paragrap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 only relevant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a clear and concise writing sty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ke objectives stand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repetition and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ntion novel method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ly present most important result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s: just the major implications; relate back to your purpose and 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rce you to summarise the purpose, scope, argument and originality of your pap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styl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lear and conc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move or shorten unnecessary words/phr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abbreviations, acrony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fine unfamiliar term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Mediocre abstract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like a table of cont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xamp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behaviour of editors is discussed. What should be covered by an abstract is considered. The importance of the abstract is described. Dictionary definitions of “abstract” are quoted. At the conclusion a revised abstract is presen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Mediocre abstracts – improved example</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abstract is of utmost importance, for it is read by 10 to 500 times more people than hear the presentation or read the entire article. It should not be a mere recital of the subjects covered, replete with such expressions as “is discussed” and “Is described.” It should be a condensation and concentration of the essential qualities of the pap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Abstracts for qualitative research</a:t>
            </a:r>
            <a:br>
              <a:rPr sz="4000"/>
            </a:br>
            <a:r>
              <a:rPr b="0" lang="en-IE" sz="2400" spc="-1" strike="noStrike">
                <a:solidFill>
                  <a:srgbClr val="000000"/>
                </a:solidFill>
                <a:latin typeface="Calibri"/>
              </a:rPr>
              <a:t>two examples (one structured, one unstructured)</a:t>
            </a:r>
            <a:endParaRPr b="0" lang="en-US" sz="2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www.globalizationandhealth.com/content/7/1/17/abstract</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onlinelibrary.wiley.com/doi/10.1111/maq.12005/abstract</a:t>
            </a:r>
            <a:endParaRPr b="0" lang="en-US" sz="2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6" name="" descr=""/>
          <p:cNvPicPr/>
          <p:nvPr/>
        </p:nvPicPr>
        <p:blipFill>
          <a:blip r:embed="rId1"/>
          <a:stretch/>
        </p:blipFill>
        <p:spPr>
          <a:xfrm>
            <a:off x="457200" y="1600200"/>
            <a:ext cx="8229600" cy="4525920"/>
          </a:xfrm>
          <a:prstGeom prst="rect">
            <a:avLst/>
          </a:prstGeom>
          <a:ln w="0">
            <a:noFill/>
          </a:ln>
        </p:spPr>
      </p:pic>
      <p:pic>
        <p:nvPicPr>
          <p:cNvPr id="77" name="Picture 2" descr=""/>
          <p:cNvPicPr/>
          <p:nvPr/>
        </p:nvPicPr>
        <p:blipFill>
          <a:blip r:embed="rId2"/>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 name="" descr=""/>
          <p:cNvPicPr/>
          <p:nvPr/>
        </p:nvPicPr>
        <p:blipFill>
          <a:blip r:embed="rId1"/>
          <a:stretch/>
        </p:blipFill>
        <p:spPr>
          <a:xfrm>
            <a:off x="457200" y="1600200"/>
            <a:ext cx="8229600" cy="4525920"/>
          </a:xfrm>
          <a:prstGeom prst="rect">
            <a:avLst/>
          </a:prstGeom>
          <a:ln w="0">
            <a:noFill/>
          </a:ln>
        </p:spPr>
      </p:pic>
      <p:pic>
        <p:nvPicPr>
          <p:cNvPr id="80" name="Picture 4" descr=""/>
          <p:cNvPicPr/>
          <p:nvPr/>
        </p:nvPicPr>
        <p:blipFill>
          <a:blip r:embed="rId2"/>
          <a:stretch/>
        </p:blipFill>
        <p:spPr>
          <a:xfrm>
            <a:off x="250920" y="293760"/>
            <a:ext cx="8893080" cy="64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onveys clearly and concisely what the paper is abou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Should indicate narrow focus of the paper</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Should be unambiguous in plain English</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What do you most want to conve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challenge to current thinking?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new methodology?</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an include the population, study design and intervention and/or outcom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A question may be a way to summarise purpos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Abstract</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 brief description of a larger doc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with an abstract for a research centred journal arti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ually scientific abstracts but lay abstracts for a wider aud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lways read the instructions for authors when writing abstrac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urpos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 reader decide whether to read text or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ummarises the findings of the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s scholars find your arti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Qualities of an abstrac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or more well-developed paragrap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rt  (100-300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nds al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s all major elements of the larger text (in same 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No new in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ucture of an abstract</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opic/Backgr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ul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BUT social science journals rarely ask for structured abstracts, even if the same principles app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inish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ke a brea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over your paper and identify key poi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to two sentences f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Background/research ques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Metho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sul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clusions/recommend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nect the ideas with appropriate trans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dd and remove text as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vise, edit and Proofre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For literature reviews/critical essays</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roblem/Topic investiga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sis stat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Your conclusions based on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 for review if no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2T10:13:38Z</dcterms:created>
  <dc:creator>Kathleen Bennett</dc:creator>
  <dc:description/>
  <dc:language>en-US</dc:language>
  <cp:lastModifiedBy>Licenced User</cp:lastModifiedBy>
  <dcterms:modified xsi:type="dcterms:W3CDTF">2014-09-18T15:34:39Z</dcterms:modified>
  <cp:revision>22</cp:revision>
  <dc:subject/>
  <dc:title>Title and abstract writing</dc:title>
</cp:coreProperties>
</file>