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2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3CBEB-EBF8-4F09-AC41-4DDD4B296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CC732-1B65-4905-A1F9-BA2B4E78E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BC9E3A-C933-426D-BF63-9CFCC70C78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3C943B-7076-42B6-BF33-136E85B3FC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371BC7-E0A0-46DB-8BF1-4B4B75E63B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AF9589-7404-44A0-BE49-FD919FE73C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E8A8A1-F309-493E-9D5D-02ED6F790E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6C9980-EC01-4F81-BD40-4985CF9348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A3A82E-372F-4F0A-9E6A-BBEB5EAF5D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D93827-E82B-4672-812E-CE2A23A34B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C4AFE8-A6CE-43BD-AFF5-6FB6844E02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AE01F-6F5D-4D23-9596-D5ADD962B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2D623-0A65-474A-BFDC-7FD6137EA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8F15B6-4EB6-485D-A3AB-3B2C69BAA2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F88F8-1817-4129-A0DA-53D31F94A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53953-6CFE-4FBC-90C7-2EB2157C1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CE92F-DFD3-4141-9E1B-BE8E1C691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23CF4-2FE8-4703-810C-566F6A135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ECA72-83F0-49DA-8866-FB6B11EC0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47D61-0E37-4788-8EEE-383CEE69B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2A3E2-5AF5-40B0-BE47-8E911792E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FD250-68E0-47AA-819C-7BBFEE388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4C776-5E6F-4C58-9CB5-3273935F8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B7383-92D1-433B-83C7-B06A46800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82C740-7B73-4564-ABCD-521263654D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730DA-4202-4E54-A129-C5ECE8CEE7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B1A0F9-AB2A-47DB-9E04-20245DBC58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4286B7-C912-4F98-93C0-A3D5219E92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6B223B-21D9-4BAA-88D2-8234D4AA67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3AC2BC-E0A1-4053-B3DE-4C79290A14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721AC1-63AC-432C-9B02-2209A2E124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6F2FF-7A74-45D0-B314-5F46D373D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ECDC6E-44E3-4E71-8261-94DE601CA0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A4F02B-E568-4935-B4B2-BB6C020F35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988370-BD36-4933-BB9D-D3D1CA2DF1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EA6C6B-3093-4756-977C-AEE5193F5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B7908E-A69A-4033-950E-4352C0698F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103F87-00AF-4F19-9EAC-6BC650B129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94F931-55C3-4E51-84A4-BE66D074FD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A6C192-28A9-41E1-B16C-BE0D06A648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9C6C6F-7E07-42E8-BBCC-BEB2885704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55D228-C98D-419E-805A-74219A6A2A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6AEE6-86B9-4E68-A871-9285EF52A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940779-66F0-4A61-9263-A8450B0D87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1450C6-B58C-4969-B7ED-482A0CD589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D0E8B5-BA0E-4BF1-A3FE-F4B6D45EEB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187570-6230-4FC9-AB9C-319DC85B1B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7B6CC3-0581-4B7B-BE95-7F400EB7A7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504B1D-3C6B-4D9F-9233-627AB10B10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7354A3-93E3-4C77-9549-815225F7A8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D6929F-4E7D-4DF6-AF60-733B2D5891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C2E169-1843-4C23-93B9-F1885255A2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CE312E-16C2-4B7E-9798-226CD48302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297BB-F319-4DC2-B94B-750FFA3C9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A5BA38-6728-4D17-BD3A-4F180FC201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5DDAD1-AE64-4ABB-9600-8C1599C04D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C96A5F-D30F-4E2E-A4FD-E13A151A6E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9828CF-BC41-4B21-95FE-85801666BE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2F4696-704A-4AED-A45E-6C938191F7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C1784B-13F2-45F0-BCB0-CE980C19C0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8CFC97-03CB-4D29-8A82-15096EE264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261E09-9CC9-4972-B1A0-6127D64C14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05EA94-6EB1-44DC-8924-F36CC88840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D83A9C-44DF-4117-9F62-FD5B825B2E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ED38B-6D10-4692-9C5D-EAAECD459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67FF89-29A1-45DF-A158-AE6C0B5AAB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AE0612-83D5-45A1-8DEA-34953B2E6A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B4F1D1-87B1-4602-A5A1-3921AA5BA4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32C571-8484-42CE-90E6-9456B94E4E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753FC9-C4CC-4442-8603-CC6E7FB90A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2A6D19-385D-4007-8564-FDF240085C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D94ABE-B0DC-4BC7-A841-3F1FB8A6CF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EFC7F1-7EE6-48F4-A4EE-C93FE1ED17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B0CD89-8E0B-44AD-98CE-867DEEEAC2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872AA0-2B7F-4A91-93D3-79246F1299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30DBF-8C19-4068-B1FB-ED7BBE397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7BD295-09F3-465C-AEA8-D1563B94C1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6AF884-763A-41BE-A44C-BCC2F83ADE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5EBBB3-3F0D-4B97-BF94-B7344165EC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535471-7B53-4AAC-AB8F-A14E5D863F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0EAB61-1743-42B1-806D-D1472A0B3F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C2BBE5-8A59-4FEE-BA6E-852D43CD5F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6F0E24-74D6-4DDE-A8CB-3C041A8DA0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6A7D62-6491-4A25-9E23-D17A5DA196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89DEBD-8AF1-42DD-8F37-E30B37523C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A5359D-6345-46BB-9779-83D7068B8B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CB3C8-14C6-43A1-8D5E-28DB539AB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A8C045-B1A0-4922-AD70-2C98E13390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B31523-CAE3-4976-98DE-39FD479E9A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F9F6FD-12EC-44DF-B4F2-7D0D1E2358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D5B7F6-7E71-47BF-9412-5B8BB45333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802060-B60C-41ED-B4CD-5FD6A59E9A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5AAC13-0D51-4117-AD80-5F76451B6E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BB684B-75C5-4C33-9790-A2E0B62990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C2D0FA-A5D8-411C-9DEA-3ED93A28B3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C8BAAB-5F2D-401C-849A-506BE36ED1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AF948C-C3CA-437D-B4DB-8DF4A38311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BCED4-4809-4849-B7B1-238A36500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9672CA-4912-4F4F-9192-0BF27C4C26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FC5188-A2FF-49EC-8802-625FE0FD18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B566C7-4ACF-4A08-9E83-EAA67D76C0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92D125-F52C-4C46-A432-45AF80CCD1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DEC4DE-EDDE-4DD7-BB7F-5FDF461044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7A81CD-0302-4E3B-BBF6-043C091ACA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FDB5FA-D196-44F6-B9F4-8F08F459BC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308514-50A0-4DC7-B746-FED30B4044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3588D0-D99C-4A54-9415-033F0CAEB5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76D2C1-7418-480E-94A9-F6DF7034CEC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58D64-45CB-422F-A654-AE79BF5019A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F327-30CB-414A-9CA6-1A19E4174CE9}"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1F98-3616-46C0-9FD1-348CBE7EE086}"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EC05-9E3C-4626-A9B7-B19F421AB8DA}"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0D7D-BDC2-4146-8226-09A834C05E2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95FF3-FC4B-4F06-98CB-D7BE72034743}"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9AEF-F861-499A-A8B8-48EC58472B7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409E6-8002-4B87-8DFA-ADE6445A5917}"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6CDE-0D21-4714-9B22-DF53A6D84C7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871720"/>
            <a:ext cx="8186760" cy="178596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Title 1" descr=""/>
          <p:cNvPicPr/>
          <p:nvPr/>
        </p:nvPicPr>
        <p:blipFill>
          <a:blip r:embed="rId1"/>
          <a:stretch/>
        </p:blipFill>
        <p:spPr>
          <a:xfrm>
            <a:off x="201600" y="274680"/>
            <a:ext cx="8485200" cy="1243080"/>
          </a:xfrm>
          <a:prstGeom prst="rect">
            <a:avLst/>
          </a:prstGeom>
          <a:ln w="0">
            <a:noFill/>
          </a:ln>
        </p:spPr>
      </p:pic>
      <p:sp>
        <p:nvSpPr>
          <p:cNvPr id="484" name=""/>
          <p:cNvSpPr txBox="1"/>
          <p:nvPr/>
        </p:nvSpPr>
        <p:spPr>
          <a:xfrm>
            <a:off x="457200" y="1599840"/>
            <a:ext cx="8229600" cy="485316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the experimental procedures / assessments were carried out, and by who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s, lab assays, equipment</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ntrols, treatments,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variable(s) were measur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s were collect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plication,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quality control an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aining,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final form of the data </a:t>
            </a:r>
            <a:endParaRPr b="0" lang="en-US" sz="23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f well known only reference</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Otherwise – more detail (and reference)</a:t>
            </a:r>
            <a:endParaRPr b="0" lang="en-US" sz="20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201600" y="274680"/>
            <a:ext cx="8485200" cy="1243080"/>
          </a:xfrm>
          <a:prstGeom prst="rect">
            <a:avLst/>
          </a:prstGeom>
          <a:ln w="0">
            <a:noFill/>
          </a:ln>
        </p:spPr>
      </p:pic>
      <p:sp>
        <p:nvSpPr>
          <p:cNvPr id="4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ably more in the passive voice than other sec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oncise as wel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Use 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bine sub-sections if appropriate (e.g. experimental design and methods)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 example ….</a:t>
            </a:r>
            <a:endParaRPr b="0" lang="en-US" sz="2700" spc="-1" strike="noStrike">
              <a:solidFill>
                <a:srgbClr val="000000"/>
              </a:solidFill>
              <a:latin typeface="Lucida Sans Unicode"/>
            </a:endParaRPr>
          </a:p>
        </p:txBody>
      </p:sp>
      <p:pic>
        <p:nvPicPr>
          <p:cNvPr id="488"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1219320" y="-14760"/>
            <a:ext cx="6781680" cy="4620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400" spc="-1" strike="noStrike">
                <a:solidFill>
                  <a:srgbClr val="000000"/>
                </a:solidFill>
                <a:latin typeface="Arial"/>
              </a:rPr>
              <a:t>Influence of Social Factors on Avoidable Mortality: A Hospital-Based Case-Control Stud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000000"/>
                </a:solidFill>
                <a:latin typeface="Arial"/>
              </a:rPr>
              <a:t>  “ </a:t>
            </a:r>
            <a:r>
              <a:rPr b="0" lang="en-US" sz="2000" spc="-1" strike="noStrike">
                <a:solidFill>
                  <a:srgbClr val="000000"/>
                </a:solidFill>
                <a:latin typeface="Arial"/>
              </a:rPr>
              <a:t>. . . 124 patients died of some type of avoidable mortality cause . . . .  </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 Public Health Reports.  Jan-Feb 2005: 55-6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3"/>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 . . 124 patients died of an avoidable cause . . . . Of the 124 eligible cases, 42 were excluded from the analysis. . .</a:t>
            </a:r>
            <a:endParaRPr b="0" lang="en-US" sz="2000" spc="-1" strike="noStrike">
              <a:solidFill>
                <a:srgbClr val="000000"/>
              </a:solidFill>
              <a:latin typeface="Arial"/>
            </a:endParaRPr>
          </a:p>
        </p:txBody>
      </p:sp>
      <p:sp>
        <p:nvSpPr>
          <p:cNvPr id="491" name="Rectangle 6"/>
          <p:cNvSpPr/>
          <p:nvPr/>
        </p:nvSpPr>
        <p:spPr>
          <a:xfrm>
            <a:off x="762120" y="297180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Is the term </a:t>
            </a:r>
            <a:r>
              <a:rPr b="0" lang="en-US" sz="2400" spc="-1" strike="noStrike">
                <a:solidFill>
                  <a:srgbClr val="ff0000"/>
                </a:solidFill>
                <a:latin typeface="Arial"/>
              </a:rPr>
              <a:t>“patient who died of an avoidable cause”</a:t>
            </a:r>
            <a:r>
              <a:rPr b="0" lang="en-US" sz="2400" spc="-1" strike="noStrike">
                <a:solidFill>
                  <a:srgbClr val="ffff00"/>
                </a:solidFill>
                <a:latin typeface="Arial"/>
              </a:rPr>
              <a:t> </a:t>
            </a:r>
            <a:r>
              <a:rPr b="0" lang="en-US" sz="2400" spc="-1" strike="noStrike">
                <a:solidFill>
                  <a:srgbClr val="376092"/>
                </a:solidFill>
                <a:latin typeface="Arial"/>
              </a:rPr>
              <a:t>interchangeable with </a:t>
            </a:r>
            <a:r>
              <a:rPr b="0" lang="en-US" sz="2400" spc="-1" strike="noStrike">
                <a:solidFill>
                  <a:srgbClr val="ff0000"/>
                </a:solidFill>
                <a:latin typeface="Arial"/>
              </a:rPr>
              <a:t>“eligible case”?</a:t>
            </a:r>
            <a:endParaRPr b="0" lang="en-US" sz="2400" spc="-1" strike="noStrike">
              <a:solidFill>
                <a:srgbClr val="000000"/>
              </a:solidFill>
              <a:latin typeface="Arial"/>
            </a:endParaRPr>
          </a:p>
        </p:txBody>
      </p:sp>
      <p:sp>
        <p:nvSpPr>
          <p:cNvPr id="492" name="Text Box 7"/>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8"/>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icture 11"/>
          <p:cNvSpPr/>
          <p:nvPr/>
        </p:nvSpPr>
        <p:spPr>
          <a:xfrm>
            <a:off x="5981760" y="2362320"/>
            <a:ext cx="1942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12"/>
          <p:cNvSpPr/>
          <p:nvPr/>
        </p:nvSpPr>
        <p:spPr>
          <a:xfrm>
            <a:off x="7620120" y="1371600"/>
            <a:ext cx="914400" cy="609480"/>
          </a:xfrm>
          <a:prstGeom prst="cloudCallout">
            <a:avLst>
              <a:gd name="adj1" fmla="val -43750"/>
              <a:gd name="adj2" fmla="val 107550"/>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49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9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376092"/>
                </a:solidFill>
                <a:latin typeface="Arial"/>
                <a:ea typeface="Arial"/>
              </a:rPr>
              <a:t>“</a:t>
            </a:r>
            <a:r>
              <a:rPr b="1" lang="en-US" sz="2000" spc="-1" strike="noStrike">
                <a:solidFill>
                  <a:srgbClr val="376092"/>
                </a:solidFill>
                <a:latin typeface="Arial"/>
                <a:ea typeface="Arial"/>
              </a:rPr>
              <a:t>. . . . 124 patients died of an avoidable cause . . . . Of the 124 eligible cases, 42 were excluded from the analysis. </a:t>
            </a:r>
            <a:r>
              <a:rPr b="1" lang="en-US" sz="2000" spc="-1" strike="noStrike">
                <a:solidFill>
                  <a:srgbClr val="ffffff"/>
                </a:solidFill>
                <a:latin typeface="Arial"/>
                <a:ea typeface="Arial"/>
              </a:rPr>
              <a:t>. .</a:t>
            </a:r>
            <a:endParaRPr b="0" lang="en-US" sz="2000" spc="-1" strike="noStrike">
              <a:solidFill>
                <a:srgbClr val="000000"/>
              </a:solidFill>
              <a:latin typeface="Arial"/>
            </a:endParaRPr>
          </a:p>
        </p:txBody>
      </p:sp>
      <p:sp>
        <p:nvSpPr>
          <p:cNvPr id="497" name="Text Box 5"/>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Ink 8" descr=""/>
          <p:cNvPicPr/>
          <p:nvPr/>
        </p:nvPicPr>
        <p:blipFill>
          <a:blip r:embed="rId1"/>
          <a:stretch/>
        </p:blipFill>
        <p:spPr>
          <a:xfrm>
            <a:off x="7078680" y="649440"/>
            <a:ext cx="749160" cy="90360"/>
          </a:xfrm>
          <a:prstGeom prst="rect">
            <a:avLst/>
          </a:prstGeom>
          <a:ln w="0">
            <a:noFill/>
          </a:ln>
        </p:spPr>
      </p:pic>
      <p:pic>
        <p:nvPicPr>
          <p:cNvPr id="500" name="Ink 9" descr=""/>
          <p:cNvPicPr/>
          <p:nvPr/>
        </p:nvPicPr>
        <p:blipFill>
          <a:blip r:embed="rId2"/>
          <a:stretch/>
        </p:blipFill>
        <p:spPr>
          <a:xfrm>
            <a:off x="911160" y="990720"/>
            <a:ext cx="2249640" cy="1299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533520" y="504000"/>
            <a:ext cx="731520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 </a:t>
            </a:r>
            <a:r>
              <a:rPr b="0" lang="en-US" sz="2000" spc="-1" strike="noStrike">
                <a:solidFill>
                  <a:srgbClr val="376092"/>
                </a:solidFill>
                <a:latin typeface="Arial"/>
              </a:rPr>
              <a:t>. . .  124 patients died of an avoidable cause.  Forty-two of them were excluded from the analysis, </a:t>
            </a:r>
            <a:r>
              <a:rPr b="0" lang="en-US" sz="2000" spc="-1" strike="noStrike">
                <a:solidFill>
                  <a:srgbClr val="ff9900"/>
                </a:solidFill>
                <a:latin typeface="Arial"/>
              </a:rPr>
              <a:t>including seven whose relatives declined, 11 who had no known telephone or address, and 24 who did not answer after five calls.  The remaining 82 cases were included and interviewed</a:t>
            </a:r>
            <a:r>
              <a:rPr b="0" lang="en-US" sz="20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02"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ubOvalCallout"/>
          <p:cNvSpPr/>
          <p:nvPr/>
        </p:nvSpPr>
        <p:spPr>
          <a:xfrm>
            <a:off x="5715000" y="2819520"/>
            <a:ext cx="1905120" cy="76176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h???</a:t>
            </a:r>
            <a:endParaRPr b="0" lang="en-US" sz="2400" spc="-1" strike="noStrike">
              <a:solidFill>
                <a:srgbClr val="000000"/>
              </a:solidFill>
              <a:latin typeface="Arial"/>
            </a:endParaRPr>
          </a:p>
        </p:txBody>
      </p:sp>
      <p:sp>
        <p:nvSpPr>
          <p:cNvPr id="504" name="Text Box 5"/>
          <p:cNvSpPr/>
          <p:nvPr/>
        </p:nvSpPr>
        <p:spPr>
          <a:xfrm>
            <a:off x="457200" y="3505320"/>
            <a:ext cx="48006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bear of little brain has to read this twice (at leas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How about you?</a:t>
            </a:r>
            <a:endParaRPr b="0" lang="en-US" sz="2800" spc="-1" strike="noStrike">
              <a:solidFill>
                <a:srgbClr val="000000"/>
              </a:solidFill>
              <a:latin typeface="Arial"/>
            </a:endParaRPr>
          </a:p>
        </p:txBody>
      </p:sp>
      <p:sp>
        <p:nvSpPr>
          <p:cNvPr id="505" name="Picture 6"/>
          <p:cNvSpPr/>
          <p:nvPr/>
        </p:nvSpPr>
        <p:spPr>
          <a:xfrm>
            <a:off x="6705720" y="3429000"/>
            <a:ext cx="1901880" cy="32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50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0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09"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1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3" name="Text Box 6"/>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3"/>
          <p:cNvSpPr/>
          <p:nvPr/>
        </p:nvSpPr>
        <p:spPr>
          <a:xfrm>
            <a:off x="2743200" y="3505320"/>
            <a:ext cx="3962520" cy="978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a:t>
            </a:r>
            <a:r>
              <a:rPr b="0" lang="en-US" sz="1800" spc="-1" strike="noStrike">
                <a:solidFill>
                  <a:srgbClr val="1f497d"/>
                </a:solidFill>
                <a:latin typeface="Arial"/>
              </a:rPr>
              <a:t>use a colon to introduce a list”</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a:t>
            </a:r>
            <a:endParaRPr b="0" lang="en-US" sz="2000" spc="-1" strike="noStrike">
              <a:solidFill>
                <a:srgbClr val="000000"/>
              </a:solidFill>
              <a:latin typeface="Arial"/>
            </a:endParaRPr>
          </a:p>
        </p:txBody>
      </p:sp>
      <p:sp>
        <p:nvSpPr>
          <p:cNvPr id="516"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8"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
          <p:cNvSpPr/>
          <p:nvPr/>
        </p:nvSpPr>
        <p:spPr>
          <a:xfrm>
            <a:off x="2286000" y="3505320"/>
            <a:ext cx="495288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Let’s try to wordsmith this, using a colon.</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438120" y="79200"/>
            <a:ext cx="8023320" cy="1231920"/>
          </a:xfrm>
          <a:prstGeom prst="rect">
            <a:avLst/>
          </a:prstGeom>
          <a:ln w="0">
            <a:noFill/>
          </a:ln>
        </p:spPr>
      </p:pic>
      <p:sp>
        <p:nvSpPr>
          <p:cNvPr id="457" name="PlaceHolder 1"/>
          <p:cNvSpPr>
            <a:spLocks noGrp="1"/>
          </p:cNvSpPr>
          <p:nvPr>
            <p:ph/>
          </p:nvPr>
        </p:nvSpPr>
        <p:spPr>
          <a:xfrm>
            <a:off x="380520" y="1143000"/>
            <a:ext cx="8458200" cy="495000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Like a recipe</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For informed readers this is the most important section</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escribes how subjects were selected and excluded</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Lucida Sans Unicode"/>
              </a:rPr>
              <a:t>DON’T DESCRIBE RESULT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on</a:t>
            </a:r>
            <a:r>
              <a:rPr b="0" lang="en-GB" sz="2100" spc="-1" strike="noStrike">
                <a:solidFill>
                  <a:srgbClr val="000000"/>
                </a:solidFill>
                <a:latin typeface="WP TypographicSymbols"/>
              </a:rPr>
              <a:t>’</a:t>
            </a:r>
            <a:r>
              <a:rPr b="0" lang="en-GB" sz="2100" spc="-1" strike="noStrike">
                <a:solidFill>
                  <a:srgbClr val="000000"/>
                </a:solidFill>
                <a:latin typeface="Lucida Sans Unicode"/>
              </a:rPr>
              <a:t>t describe standard methods in detail - use reference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tatist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th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Remember that you can put more detailed methods on the web--for example, questionnaire</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3"/>
          <p:cNvSpPr/>
          <p:nvPr/>
        </p:nvSpPr>
        <p:spPr>
          <a:xfrm flipH="1" flipV="1">
            <a:off x="8975160" y="3263040"/>
            <a:ext cx="18396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2"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9"/>
          <p:cNvSpPr/>
          <p:nvPr/>
        </p:nvSpPr>
        <p:spPr>
          <a:xfrm>
            <a:off x="838080" y="1333080"/>
            <a:ext cx="7848720" cy="4969440"/>
          </a:xfrm>
          <a:prstGeom prst="rect">
            <a:avLst/>
          </a:prstGeom>
          <a:noFill/>
          <a:ln w="0">
            <a:noFill/>
          </a:ln>
        </p:spPr>
        <p:style>
          <a:lnRef idx="0"/>
          <a:fillRef idx="0"/>
          <a:effectRef idx="0"/>
          <a:fontRef idx="minor"/>
        </p:style>
        <p:txBody>
          <a:bodyPr lIns="90000" rIns="90000" tIns="46800" bIns="46800" anchor="ctr">
            <a:spAutoFit/>
          </a:bodyPr>
          <a:p>
            <a:pPr>
              <a:lnSpc>
                <a:spcPct val="125000"/>
              </a:lnSpc>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24" name="Rectangle 10"/>
          <p:cNvSpPr/>
          <p:nvPr/>
        </p:nvSpPr>
        <p:spPr>
          <a:xfrm>
            <a:off x="533520" y="152280"/>
            <a:ext cx="8076960" cy="29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 including seven whose relatives declined, 11 who had no known telephone or address, and 24 who did not answer after five calls.</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p:txBody>
      </p:sp>
      <p:sp>
        <p:nvSpPr>
          <p:cNvPr id="525" name="AutoShape 11"/>
          <p:cNvSpPr/>
          <p:nvPr/>
        </p:nvSpPr>
        <p:spPr>
          <a:xfrm>
            <a:off x="3352680" y="990720"/>
            <a:ext cx="304920" cy="380880"/>
          </a:xfrm>
          <a:prstGeom prst="downArrow">
            <a:avLst>
              <a:gd name="adj1" fmla="val 50000"/>
              <a:gd name="adj2" fmla="val 3122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380880" y="913680"/>
            <a:ext cx="8153640" cy="146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376092"/>
                </a:solidFill>
                <a:latin typeface="Arial"/>
              </a:rPr>
              <a:t>Forty-two of them were excluded from the analysis: eleven had no known telephone or address; in seven cases relatives declined to participate; and in 24 cases no family member could be contacted within five call attempts.  Relatives of the remaining 82 cases were interviewed</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2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9" name="Text Box 9"/>
          <p:cNvSpPr/>
          <p:nvPr/>
        </p:nvSpPr>
        <p:spPr>
          <a:xfrm>
            <a:off x="1295280" y="3276720"/>
            <a:ext cx="58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914400" y="1828440"/>
            <a:ext cx="6629400" cy="2760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ffffff"/>
                </a:solidFill>
                <a:latin typeface="Arial"/>
              </a:rPr>
              <a:t>“ </a:t>
            </a:r>
            <a:r>
              <a:rPr b="0" lang="en-US" sz="2000" spc="-1" strike="noStrike">
                <a:solidFill>
                  <a:srgbClr val="376092"/>
                </a:solidFill>
                <a:latin typeface="Arial"/>
              </a:rPr>
              <a:t>. . . 124 patients died of an avoidable cause.  </a:t>
            </a:r>
            <a:r>
              <a:rPr b="0" lang="en-US" sz="2000" spc="-1" strike="noStrike">
                <a:solidFill>
                  <a:srgbClr val="f79646"/>
                </a:solidFill>
                <a:latin typeface="Arial"/>
              </a:rPr>
              <a:t>Relatives of 82 were interviewed. </a:t>
            </a:r>
            <a:r>
              <a:rPr b="0" lang="en-US" sz="2000" spc="-1" strike="noStrike">
                <a:solidFill>
                  <a:srgbClr val="376092"/>
                </a:solidFill>
                <a:latin typeface="Arial"/>
              </a:rPr>
              <a:t> The remaining 42 were excluded, either because they had no known telephone or address (n=11), relatives declined to participate (n=7), or no family member could be contacted within five call attempts (n=24).”</a:t>
            </a: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3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33"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6"/>
          <p:cNvSpPr/>
          <p:nvPr/>
        </p:nvSpPr>
        <p:spPr>
          <a:xfrm>
            <a:off x="1143000" y="380880"/>
            <a:ext cx="5867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p:txBody>
      </p:sp>
      <p:pic>
        <p:nvPicPr>
          <p:cNvPr id="536"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ufficient detail to permit evaluation and replic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you did to answer the research question / obtain the message (</a:t>
            </a:r>
            <a:r>
              <a:rPr b="0" lang="en-GB" sz="2700" spc="-1" strike="noStrike">
                <a:solidFill>
                  <a:srgbClr val="00b050"/>
                </a:solidFill>
                <a:latin typeface="Lucida Sans Unicode"/>
              </a:rPr>
              <a:t>how the story line develops…</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69328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Population / Participa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Desig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rventions / Exposur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 of Measure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alcul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alysis of data</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thical approval</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457200" y="23760"/>
            <a:ext cx="8229600" cy="1219320"/>
          </a:xfrm>
          <a:prstGeom prst="rect">
            <a:avLst/>
          </a:prstGeom>
          <a:ln w="0">
            <a:noFill/>
          </a:ln>
        </p:spPr>
      </p:pic>
      <p:sp>
        <p:nvSpPr>
          <p:cNvPr id="463" name="PlaceHolder 1"/>
          <p:cNvSpPr>
            <a:spLocks noGrp="1"/>
          </p:cNvSpPr>
          <p:nvPr>
            <p:ph/>
          </p:nvPr>
        </p:nvSpPr>
        <p:spPr>
          <a:xfrm>
            <a:off x="457200" y="990360"/>
            <a:ext cx="8229600" cy="5715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udy population</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subjects were eligible (eligibilty criteria)</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eclined to participate (and why)</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participated</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ropped out (and when / why)</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ampling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boratory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pidemiologic investig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aseline data collec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agnostic Evalu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terven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ollow-up</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finition of variable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xposur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Outcom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ase definition</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atistical analysi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341360"/>
            <a:ext cx="8229600" cy="5112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o are they?</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did they come from?</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re and how were they recruited for the study?</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was the recruitment rate, refusals, drop-outs etc. </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 size – prior estimates made?)</a:t>
            </a:r>
            <a:endParaRPr b="0" lang="en-US" sz="23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sampling method used?</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field site (if appropriate)?</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231840" y="274680"/>
            <a:ext cx="8454960" cy="1468440"/>
          </a:xfrm>
          <a:prstGeom prst="rect">
            <a:avLst/>
          </a:prstGeom>
          <a:ln w="0">
            <a:noFill/>
          </a:ln>
        </p:spPr>
      </p:pic>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atistical analys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ests used and which measurements they compar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statistical software programme including version / release numbe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transformations, probability level used to determine significance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 values and 95% CI (how these were calculated)</a:t>
            </a:r>
            <a:endParaRPr b="0" lang="en-US" sz="2300" spc="-1" strike="noStrike">
              <a:solidFill>
                <a:srgbClr val="000000"/>
              </a:solidFill>
              <a:latin typeface="Lucida Sans Unicode"/>
            </a:endParaRPr>
          </a:p>
        </p:txBody>
      </p:sp>
      <p:pic>
        <p:nvPicPr>
          <p:cNvPr id="468" name="Picture 2" descr="ServeImage;jsessionid=G27RQyTvp8D6cZ9DQg17pvVv26F0G4m7nsHGFCQjbTYCPH5v5mYW!-447275640!-949856144!8091!-1?an=00001648-200201000-00004&amp;id=FF1&amp;type=full"/>
          <p:cNvPicPr/>
          <p:nvPr/>
        </p:nvPicPr>
        <p:blipFill>
          <a:blip r:embed="rId2"/>
          <a:stretch/>
        </p:blipFill>
        <p:spPr>
          <a:xfrm>
            <a:off x="152280" y="152280"/>
            <a:ext cx="8839440" cy="62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1295280" y="353880"/>
            <a:ext cx="6553440" cy="1803600"/>
          </a:xfrm>
          <a:prstGeom prst="rect">
            <a:avLst/>
          </a:prstGeom>
          <a:ln w="0">
            <a:noFill/>
          </a:ln>
        </p:spPr>
      </p:pic>
      <p:sp>
        <p:nvSpPr>
          <p:cNvPr id="470" name="Text Box 3"/>
          <p:cNvSpPr/>
          <p:nvPr/>
        </p:nvSpPr>
        <p:spPr>
          <a:xfrm>
            <a:off x="1981080" y="2895480"/>
            <a:ext cx="541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486400"/>
                <a:tab algn="l" pos="6400800"/>
                <a:tab algn="l" pos="7315200"/>
                <a:tab algn="l" pos="8229600"/>
                <a:tab algn="l" pos="9144000"/>
                <a:tab algn="l" pos="10058400"/>
                <a:tab algn="l" pos="103352760"/>
              </a:tabLst>
            </a:pPr>
            <a:endParaRPr b="0" lang="en-US" sz="1800" spc="-1" strike="noStrike">
              <a:solidFill>
                <a:srgbClr val="000000"/>
              </a:solidFill>
              <a:latin typeface="Arial"/>
            </a:endParaRPr>
          </a:p>
        </p:txBody>
      </p:sp>
      <p:sp>
        <p:nvSpPr>
          <p:cNvPr id="472" name="Rectangle 5"/>
          <p:cNvSpPr/>
          <p:nvPr/>
        </p:nvSpPr>
        <p:spPr>
          <a:xfrm>
            <a:off x="0" y="24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
          <p:cNvSpPr/>
          <p:nvPr/>
        </p:nvSpPr>
        <p:spPr>
          <a:xfrm>
            <a:off x="0" y="39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7"/>
          <p:cNvSpPr/>
          <p:nvPr/>
        </p:nvSpPr>
        <p:spPr>
          <a:xfrm>
            <a:off x="0" y="55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8"/>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subTitle"/>
          </p:nvPr>
        </p:nvSpPr>
        <p:spPr>
          <a:xfrm>
            <a:off x="1295280" y="2514600"/>
            <a:ext cx="6934320" cy="4038480"/>
          </a:xfrm>
          <a:prstGeom prst="rect">
            <a:avLst/>
          </a:prstGeom>
          <a:noFill/>
          <a:ln w="0">
            <a:noFill/>
          </a:ln>
        </p:spPr>
        <p: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Lucida Sans Unicode"/>
              </a:rPr>
              <a:t>	</a:t>
            </a:r>
            <a:r>
              <a:rPr b="0" lang="en-US" sz="2700" spc="-1" strike="noStrike">
                <a:solidFill>
                  <a:srgbClr val="1f497d"/>
                </a:solidFill>
                <a:latin typeface="Lucida Sans Unicode"/>
              </a:rPr>
              <a:t>	</a:t>
            </a:r>
            <a:r>
              <a:rPr b="0" lang="en-US" sz="3600" spc="-1" strike="noStrike">
                <a:solidFill>
                  <a:srgbClr val="1f497d"/>
                </a:solidFill>
                <a:latin typeface="Lucida Sans Unicode"/>
              </a:rPr>
              <a:t>METHODS</a:t>
            </a:r>
            <a:endParaRPr b="0" lang="en-US" sz="3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articipant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Intervention</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rocess and Outcome Measures</a:t>
            </a:r>
            <a:endParaRPr b="0" lang="en-US" sz="24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	</a:t>
            </a:r>
            <a:r>
              <a:rPr b="0" lang="en-US" sz="1800" spc="-1" strike="noStrike">
                <a:solidFill>
                  <a:srgbClr val="1f497d"/>
                </a:solidFill>
                <a:latin typeface="Times New Roman"/>
              </a:rPr>
              <a:t>Diet and Physical Activity Data</a:t>
            </a:r>
            <a:endParaRPr b="0" lang="en-US" sz="18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Anthropometric Data</a:t>
            </a:r>
            <a:endParaRPr b="0" lang="en-US" sz="18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Metabolic Measures</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Statistical Analysi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4" descr=""/>
          <p:cNvPicPr/>
          <p:nvPr/>
        </p:nvPicPr>
        <p:blipFill>
          <a:blip r:embed="rId1"/>
          <a:srcRect l="32248" t="49719" r="-459" b="2372"/>
          <a:stretch/>
        </p:blipFill>
        <p:spPr>
          <a:xfrm>
            <a:off x="3733920" y="1523880"/>
            <a:ext cx="5257800" cy="5067360"/>
          </a:xfrm>
          <a:prstGeom prst="rect">
            <a:avLst/>
          </a:prstGeom>
          <a:ln w="0">
            <a:noFill/>
          </a:ln>
        </p:spPr>
      </p:pic>
      <p:sp>
        <p:nvSpPr>
          <p:cNvPr id="478" name="AutoShape 5"/>
          <p:cNvSpPr/>
          <p:nvPr/>
        </p:nvSpPr>
        <p:spPr>
          <a:xfrm>
            <a:off x="3124080" y="1828800"/>
            <a:ext cx="2729160" cy="1143000"/>
          </a:xfrm>
          <a:prstGeom prst="rightArrow">
            <a:avLst>
              <a:gd name="adj1" fmla="val 50000"/>
              <a:gd name="adj2" fmla="val 5969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a:t>
            </a:r>
            <a:endParaRPr b="0" lang="en-US" sz="1800" spc="-1" strike="noStrike">
              <a:solidFill>
                <a:srgbClr val="000000"/>
              </a:solidFill>
              <a:latin typeface="Arial"/>
            </a:endParaRPr>
          </a:p>
        </p:txBody>
      </p:sp>
      <p:sp>
        <p:nvSpPr>
          <p:cNvPr id="479" name="AutoShape 6"/>
          <p:cNvSpPr/>
          <p:nvPr/>
        </p:nvSpPr>
        <p:spPr>
          <a:xfrm>
            <a:off x="2286000" y="3048120"/>
            <a:ext cx="2728800" cy="485640"/>
          </a:xfrm>
          <a:prstGeom prst="rightArrow">
            <a:avLst>
              <a:gd name="adj1" fmla="val 50000"/>
              <a:gd name="adj2" fmla="val 1404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a:t>
            </a:r>
            <a:endParaRPr b="0" lang="en-US" sz="1800" spc="-1" strike="noStrike">
              <a:solidFill>
                <a:srgbClr val="000000"/>
              </a:solidFill>
              <a:latin typeface="Arial"/>
            </a:endParaRPr>
          </a:p>
        </p:txBody>
      </p:sp>
      <p:sp>
        <p:nvSpPr>
          <p:cNvPr id="480" name="AutoShape 7"/>
          <p:cNvSpPr/>
          <p:nvPr/>
        </p:nvSpPr>
        <p:spPr>
          <a:xfrm>
            <a:off x="1371600" y="3657600"/>
            <a:ext cx="2728800" cy="2133720"/>
          </a:xfrm>
          <a:prstGeom prst="rightArrow">
            <a:avLst>
              <a:gd name="adj1" fmla="val 50000"/>
              <a:gd name="adj2" fmla="val 31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a:t>
            </a:r>
            <a:endParaRPr b="0" lang="en-US" sz="1800" spc="-1" strike="noStrike">
              <a:solidFill>
                <a:srgbClr val="000000"/>
              </a:solidFill>
              <a:latin typeface="Arial"/>
            </a:endParaRPr>
          </a:p>
        </p:txBody>
      </p:sp>
      <p:sp>
        <p:nvSpPr>
          <p:cNvPr id="481" name="AutoShape 8"/>
          <p:cNvSpPr/>
          <p:nvPr/>
        </p:nvSpPr>
        <p:spPr>
          <a:xfrm>
            <a:off x="1219320" y="5867280"/>
            <a:ext cx="2728800" cy="486000"/>
          </a:xfrm>
          <a:prstGeom prst="rightArrow">
            <a:avLst>
              <a:gd name="adj1" fmla="val 50000"/>
              <a:gd name="adj2" fmla="val 1403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pic>
        <p:nvPicPr>
          <p:cNvPr id="482" name="Picture 9" descr=""/>
          <p:cNvPicPr/>
          <p:nvPr/>
        </p:nvPicPr>
        <p:blipFill>
          <a:blip r:embed="rId2"/>
          <a:stretch/>
        </p:blipFill>
        <p:spPr>
          <a:xfrm>
            <a:off x="380880" y="0"/>
            <a:ext cx="3886200" cy="106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7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7:02Z</dcterms:modified>
  <cp:revision>253</cp:revision>
  <dc:subject/>
  <dc:title>Slide 1</dc:title>
</cp:coreProperties>
</file>