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0EC5-CAE6-4024-B691-DE2254538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E4E1-DE12-4650-80EA-3A5DF3C163A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1B0C-4FD1-419A-B6AF-02D3C28815D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F777-F908-417E-82BA-A0793C2AB379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8EAD-3314-4C9F-9EF2-67725B92A27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885E-EAB4-40C3-BEC3-6C2E88ECD68A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C17B-5BA1-47B3-B042-F742FC6AEA9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1DC1-555E-42A6-8C51-D8A7E96D85F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31BD-4C14-4DB0-BE00-79091E8B7B1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7724-BC2E-4615-9577-24FB97C46A3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EB4B-8D53-4CA9-8F97-F31D726C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B0A-024C-4E0A-8AFF-14BA0C09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62B-8E4F-4AD5-97F5-4D9CB7F3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86B6-8D69-4D85-BF4F-62938B30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BEF6-3464-4FE9-8C46-063E0B38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A09E-78D1-4F10-ACEF-170D8230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8865-CD1D-4677-87FF-CE7166B1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BBF8-F003-4ED7-BA3F-4A4F5F82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821E-25B2-4E9E-87C8-FB7EE0DD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80D9-DA95-498A-AECF-80917C41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E715-2C5D-4559-AEAB-1A4E02DB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7D5-ED20-4970-92E6-0599504C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24D8-61B5-49F6-98F4-95CED626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FE06-0CF1-4848-BE8F-1846CF4F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D86B-0097-46BE-BDB3-D7F8872D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4498-1549-42C6-83B0-56FA7BEB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1B9D-B954-4911-985A-BE3D0ABA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1B97B-0A15-4849-8625-FE5E72B6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BA67F-3D47-43C6-A7BB-A118D89C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2C24A-A405-4D3A-9F1D-688A67FE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C307-AF33-40A5-9DB4-D94F7252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C4DA9-2F15-4473-905C-C27B4AE8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AC5-E20D-4C03-8610-8ED96579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0DB1-1834-4360-992F-611382FB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48EAE-AAB8-4D64-ACA5-1EB4E95A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3F2C6-AAC0-4314-BC83-CBD4F5AF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7F6FC-5BC2-427E-80D9-401D47A6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870C3-17A3-4BC0-A48A-CE627E25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A9F0-6F92-424B-84CC-97AE6554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0054A-59F0-4677-809D-97C33ED3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1A8FF-4AAD-487E-8B57-E63E7F83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C62A3-C26D-401A-8E83-2FD217C8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F7ACE-6447-46B8-B7F8-E10B9931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EFC-83F4-4314-B631-94FA1793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1B4CD-608C-46E6-831D-EAD30B2D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82B22-E97F-4C79-B5A6-BFF8E1D8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CF419-677D-4B70-8F83-AF285CCF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29A53-EB39-4C82-B456-272769F2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0D3CF-60BE-4936-9158-7779F082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B8DBB-E15F-4F06-AEE7-7DFB482A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D5BBF-3EED-4247-8B76-9FD6DE5D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7FDCB-1406-45F2-9CCE-021E390A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75496-FE4D-4318-9742-858A83C0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792CD-68C5-463E-B83D-82FD3C56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76C-C14E-4D53-A26B-E95F29EA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886E8-8F98-477B-AD74-29EA9053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A6285-2B5A-403C-84CC-4612A67D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44284-0A3D-434D-B086-A539F8CB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3399D-61E9-4CB0-8E76-5212066A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55F62-7D2D-4773-AC88-84279D47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7A010-D0C4-4864-AFAF-FB4F76D9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162AD-55E7-4D29-B59F-CC72D28B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EE8C7-D444-45C2-9C4F-22B29F82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3E9BC-85AD-4AF6-8218-63C4FEB7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800EE-B2A9-4CE6-AD76-8DE294F6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F3E-EC1E-48A8-9026-D193383D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AC292-A66A-4752-89C6-F944A50E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67025-8BB0-4400-9706-E087A6CD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681A8-31AC-464A-8EB9-4DFCB262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38CFF-6E69-4633-A126-8B84AA9F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DDEF3-DBCB-4EE8-B02C-EAB1B6D9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B4818-0578-4DFC-A253-3662A825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A71F7-F438-448A-B7EF-9480DAD9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D377F-F156-4CCA-A664-9AA24697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05A41-BBF7-4513-8F3A-C0EAA904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36F9F-431F-478D-B1A7-D0BAD429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42D-A4C9-4830-9BC0-3F85801C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B4E88-13F8-481D-BACC-6D2450BE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AB1A9-6316-4081-B278-3DE1DBC2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97BA9-5133-49D3-87AF-1DF1E989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EEA84-4DC1-4ADF-A1AD-B8F7DFC0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DB3F8-9E65-47E5-A082-938C3FB8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8B7CC-4459-4314-89BC-8F28C1EF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F1F0E-C803-4818-A0B9-28F18808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E365C-B086-436D-AEEE-93A303BF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3B960-26C9-4ABB-84C7-7B9D18E1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073D8-23D1-4B65-9E77-5E738784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B36-86CA-462F-835E-12259FEC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0DBF6-707E-4006-86B1-2AE516F8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64911-14A9-4EE4-AF8C-6B66991E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C904E-969A-41FE-9510-E742F31E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75C45-78C0-4DBD-9862-0A3E0F02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39E65-477D-4834-B8F4-6689BBFD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5859E-32B3-414E-A7F3-18BAB32B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F7ABA-A3A4-4831-A9D4-E2AEAEDA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BC6AD-6B96-478E-9CC4-F706C0F9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5A4A5-2DD6-4107-96AD-1D755F32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08BDD-97F3-4E00-AEA9-F6D103C2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140-10F4-4DA1-8ABC-02F8CC2E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09E5C-508E-482F-A720-112B81CA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C7699-07D0-44C7-BF21-C9F34AF7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E95D2-E084-4022-84FB-016F6BD3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7BF60-61DC-4938-81B1-33CD3732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4CB48-90EC-460D-8A72-32C1DD0E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0A965-3AE0-4555-9D24-D39A6A40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512A0-CE95-4160-9114-0A3BEE64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B7F6-1AE7-4CFC-B9E0-7C392BC11BA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AC1A-48C6-488E-BB52-9280A7D25F8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A63C-2DE2-4034-B613-890F37CFDC6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836E-E2F7-41BA-8035-1FB4726FC9A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DBCB-559B-4549-9F16-0113BAF5177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727C-B25A-4FC5-9C21-30644E63F06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CE24-DCED-4493-8308-63E4A38BF1A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E063-D2A9-47C9-BCC2-BE963CC39E0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in Qualitative Research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Shahaduz Zaman Ph.D.</a:t>
            </a:r>
            <a:br>
              <a:rPr sz="28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Newcastle University, UK </a:t>
            </a:r>
            <a:br>
              <a:rPr sz="28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04C0-A8CB-466D-B2A5-697894E52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e siz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7313-EAE8-4F0D-9BE2-A3A0EC178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many is enough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nough to do justice to the subject, no more, no less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BA10-955B-4576-AC26-1A00BFAA0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minutes interview with 200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v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hours interview with 2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50AD-984B-4710-A91B-C003EE4C0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ud’s ground breaking theory ‘Psychoanalysis’ 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d on 10 ca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udied over 5 years</a:t>
            </a:r>
            <a:br>
              <a:rPr sz="3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ule of the thumb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55F9-DD70-42BD-8AED-3F6C78693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fficie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Covering maximum variety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of respondents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tu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Point of redundancy in response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2B07-1C2C-4312-AD1D-53CA094AA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ple determination is influenced by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Homogeneity of the group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Nature and experience of the researcher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EBF5-035F-4438-B667-DB333B2D8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phenomenological Studie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At least 6 interviews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grounded theory Stud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12 interviews in each category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Greg Guest, Arwen Bunce and Laura Johnson (2006) Field Methods (18, 59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4A16-49C4-43D1-90D3-F2752F283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arge samples selected random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e should be representative of some larger population to which one hopes to generalize research find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depth, small samples selected purposive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ing driven by the desire to illuminate questions under study, and to increase the scope or range of data expos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D2C1-2F81-421C-811F-521AB6166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gins with a relatively fixed theory, eg. An explanation for something that is to be tested. Theory tested in context of random sample, using large enough </a:t>
            </a:r>
            <a:r>
              <a:rPr b="0" i="1" lang="en-GB" sz="3600" spc="-1" strike="noStrike">
                <a:solidFill>
                  <a:srgbClr val="000000"/>
                </a:solidFill>
                <a:latin typeface="Gill Sans MT"/>
              </a:rPr>
              <a:t>N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monstrate statistical significanc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4720" y="2174760"/>
            <a:ext cx="4041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egins with ‘flexible’ theory, allowing for further revision/ decision regarding boundary of investigation, follows a process such as what data sources are ‘rich’, who should I talk to, what should I look at first. As research progresses, ask what data sources may confirm my understanding (theory) or challenge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mpling Strategies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86C9-D3A2-4E0F-8537-11120E8C4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ximum var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heory based: Sampling in focused manner, based on a priory theory being evalu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firming/Disconfirming c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xtreme or deviant cas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ratified purposefu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nowball/Chain Samp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F398-62AA-4745-B0DF-4DD4FC998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4" descr="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CC64-7DE4-46D7-98F7-09DCD314F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Diagram 5"/>
          <p:cNvGrpSpPr/>
          <p:nvPr/>
        </p:nvGrpSpPr>
        <p:grpSpPr>
          <a:xfrm>
            <a:off x="1044360" y="171360"/>
            <a:ext cx="7870680" cy="5091120"/>
            <a:chOff x="1044360" y="171360"/>
            <a:chExt cx="7870680" cy="5091120"/>
          </a:xfrm>
        </p:grpSpPr>
        <p:sp>
          <p:nvSpPr>
            <p:cNvPr id="363" name="_s1028"/>
            <p:cNvSpPr/>
            <p:nvPr/>
          </p:nvSpPr>
          <p:spPr>
            <a:xfrm>
              <a:off x="1044360" y="1597680"/>
              <a:ext cx="4885560" cy="3664800"/>
            </a:xfrm>
            <a:prstGeom prst="donut">
              <a:avLst>
                <a:gd name="adj" fmla="val 16666"/>
              </a:avLst>
            </a:prstGeom>
            <a:solidFill>
              <a:srgbClr val="4646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_s1029"/>
            <p:cNvSpPr/>
            <p:nvPr/>
          </p:nvSpPr>
          <p:spPr>
            <a:xfrm>
              <a:off x="7613640" y="180000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_s1030"/>
            <p:cNvSpPr/>
            <p:nvPr/>
          </p:nvSpPr>
          <p:spPr>
            <a:xfrm>
              <a:off x="1857240" y="2207160"/>
              <a:ext cx="3256920" cy="2442600"/>
            </a:xfrm>
            <a:prstGeom prst="donut">
              <a:avLst>
                <a:gd name="adj" fmla="val 25000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7613640" y="98568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ig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_s1032"/>
            <p:cNvSpPr/>
            <p:nvPr/>
          </p:nvSpPr>
          <p:spPr>
            <a:xfrm>
              <a:off x="2673000" y="2819160"/>
              <a:ext cx="1628280" cy="1221840"/>
            </a:xfrm>
            <a:prstGeom prst="ellipse">
              <a:avLst/>
            </a:prstGeom>
            <a:solidFill>
              <a:srgbClr val="b292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_s1033"/>
            <p:cNvSpPr/>
            <p:nvPr/>
          </p:nvSpPr>
          <p:spPr>
            <a:xfrm>
              <a:off x="7613640" y="17136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mpl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09A7-32BE-463C-BB79-967E8AE5E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rposive sampling should never be confused with sampling for convenienc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Features of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368E-BB59-4601-922B-12AEDCD6E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Qualitative sampling is systematic but flex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uided by clear research ques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evolves as the study progres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E788-241E-429D-BDCC-CDB6BF319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units are selected serially. Who and what comes next depends on who and what comes befor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election continues to the point of redundancy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Qualitative sampl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BDBB-2978-4090-B9AB-F41778E4D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process (Plan-Revis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agmatic (Time, money, personne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e considerations explicit/Justify what has been d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arning in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1F90-6083-4171-B759-C74E83BA1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too th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selecting the exotic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fitting researchers ideal percep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es qualitative research present bias result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the Generalizibility  of qualitative research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100" spc="-1" strike="noStrike">
                <a:solidFill>
                  <a:srgbClr val="464653"/>
                </a:solidFill>
                <a:latin typeface="Bookman Old Style"/>
              </a:rPr>
              <a:t>Biases</a:t>
            </a:r>
            <a:endParaRPr b="0" lang="en-US" sz="3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ective Instru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server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lec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ffect of observ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Bias is (partly) unavoidabl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Dealing with bias in  Qualitative research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ansferabili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Bookman Old Style"/>
              </a:rPr>
              <a:t>Types of triangulation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metho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resear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perspectiv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image_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Quantitative Sampling : Random Sampling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64BF-D06B-4524-8783-89764FCAA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e that is representative in a statistical way of the whole population of intere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which each member of the population has an equal chances of being selec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Objectivity vs Reflexiv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bject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term generally implies maintaining distance between the observer and the observed and minimizing any possible influence of the researchers value on the process of inqui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Reflex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way of knowing that even as a co- participant in the inquiry the researcher has maintained the distinction between personal values and those of the participants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t suggests that there is a middle ground between becoming too involved which can cloud judgment, and remaining too distant, which can reduce understanding.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earcher’s critical self awareness -is a vital process in which you question and observe yourself at the same time you listen to and observe the participan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53"/>
                </a:solidFill>
                <a:latin typeface="Bookman Old Style"/>
              </a:rPr>
              <a:t>Generalizibility</a:t>
            </a:r>
            <a:endParaRPr b="0" lang="en-US" sz="2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t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atistic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tural Generalization (Transferability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Generalizibility vs Transferabil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eneralizi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findings of the research can be generalized to the wider population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ransfer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the conclusions of a study are transferable to other contex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Qualitative Sampling: Purposive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5B22-B71B-48C8-8897-8E2EC0986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contrast to random sampling,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information ric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cases are selected according to the purpose of the stud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order to get a holistic picture sampling  includes a serious search for both positive and negative case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eoretical Sampl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tto of qualitative 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545B-89F1-406E-92AE-649076D43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mall is beauti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t about littl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Aim of sampling in qualitative research 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2004-3124-4760-9EF5-EE52C89A6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he primary purpose of sampling is to collect specific cases, events, or actions that can clarify and deepen understa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6BD5-8549-4876-8C75-EEE323C1A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adth Versus Dep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oader range of experiences for a smaller number of peopl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uni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DD3A-C799-43DC-8613-69830EDC8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ntitative Sampling samples peop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litative Sampling samples people, time, sit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B077-C112-40C5-9C57-7448871C1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peopl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ical cas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iant case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s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tim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y/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ason/Personal occurrence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1:02:25Z</dcterms:created>
  <dc:creator>Neeor</dc:creator>
  <dc:description/>
  <dc:language>en-US</dc:language>
  <cp:lastModifiedBy>Zaman</cp:lastModifiedBy>
  <dcterms:modified xsi:type="dcterms:W3CDTF">2013-12-11T21:12:33Z</dcterms:modified>
  <cp:revision>37</cp:revision>
  <dc:subject/>
  <dc:title>Selecting Unit of Study Sampling</dc:title>
</cp:coreProperties>
</file>