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2624-DE01-4A4D-8437-B3A614DF48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525E-14EC-4E0A-A54E-E314D65FF597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D0F7-446D-4C92-B07C-76D88B3FBA7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9B84-C70B-4424-80BA-746D4208FAA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5C9F-693B-4C4F-8402-BA677BDB064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88EF-8880-4879-A323-9A51CD73E58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2058-E16A-43D6-8FEA-611B200436C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49FE-245C-4867-ABF0-2A8CFCAED45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C26A-8B41-4012-A227-55ABF48712E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3DED-5915-426C-88C9-26833940BF5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27B1-8B64-4BB2-9BFC-13FEB4DD616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A1D9-02DB-44F7-ACE9-5A628828C20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C77B-192E-4408-A83F-9EEEBB462B2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288D-79BE-4CFA-A383-878596446BC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6BD9-EA1A-43E5-8C27-71063C6D9C5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CFCB-FB9D-4EF7-8D23-27ACC191CDE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0D11-EAFA-4E79-BB28-B02F5FC982E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953-8CA2-4ADE-9312-9EE54CDA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B88-E46C-4639-AE91-FFBA63C3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E2F-6759-4109-9E8D-25F0D07F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11F-B479-42B8-B4D3-55B84A9F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D901-306B-48D7-9217-6DE57EBB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B602-88D8-479C-B282-1B5B2B9E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98FD-A0FA-4378-B661-42994319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DF74-6534-4ADE-9FD4-3D4DDA5B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2A75-CD09-45A8-BF3D-5CE7355F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673F-FF49-4B3E-BF0D-5DD79DC5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9CA3-2C26-4B34-A5D0-A4219750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EA9-731A-4291-9C34-D7F2577B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53A5-C0B1-4E74-A520-20A36FC4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4510-194F-45AC-9450-B8FB033C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A17C-4068-4B51-B5CB-A890E596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7164-5FC2-4BEF-8223-9425CBE3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C735-3119-4036-BC04-1DFD9A22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2A0-D8F0-4320-AB6D-54729613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CB1-5046-4E04-9FA9-6B543D96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5DB-B51E-4F30-90BB-AE36A52C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3AC-C794-4424-978F-4F596570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94F-F650-4A19-936A-48AD324F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053-AEA2-4ED3-B247-150C4B83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D98-E6E1-44A9-BE8F-AAF63032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6266-B71C-4CA2-9933-CFA56B6B602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CFA1-B835-4D30-83F7-0D76C27E400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Dirt, hygiene, defe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752480" y="0"/>
            <a:ext cx="5867640" cy="8839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193840" y="29908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m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7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8600" y="5867280"/>
            <a:ext cx="25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380880" y="11160"/>
            <a:ext cx="9905760" cy="683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97840" y="32400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t little baby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love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unknown person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cow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 (ctd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’s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do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child (Turkana exam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lusion: undesired intimacy (cf. sexual harassmen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rts of hygie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dic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us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esthetics, not microbes” (Kru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Why is study of defecation relevant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eryday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idden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ultu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ature / Nurture (“nature’s call”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oretical relevance (window on cultu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ation to health (regular, normal stoo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agnostic val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evance to public heal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otation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 …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derlying motivations for domestic hygiene … lie not in the avoidance of specific diseases, but in subtler social forc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d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hygiene is a complex idea that embodies a number of social values, clarity has often been missing, both in the understanding of how hygiene relates to health, and in the conception and execution of hygiene education programm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rt: disord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the evidence of the imperfections of life.” (MacLaughlin in Curtis 1998: 13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matter out of place.” (Douglas 1966) i.e. dirt is an invitation to restore order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thing is dirt by itself; its use and place make it dirty…. But what about (human) feces????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tter out of pla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ltural reasons (e.g. right/left hand, dress, spitting, grasshoppers, hand in food…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reasons: who does what to wh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understand the social dimension: let us take the example of defecation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975240" y="5451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57200" y="17136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71600" y="-685800"/>
            <a:ext cx="6338880" cy="8381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2286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eny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10058400" cy="690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050840" y="17604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pal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2:06:35Z</dcterms:created>
  <dc:creator>BU</dc:creator>
  <dc:description/>
  <dc:language>en-US</dc:language>
  <cp:lastModifiedBy>Owner</cp:lastModifiedBy>
  <dcterms:modified xsi:type="dcterms:W3CDTF">2013-11-18T12:50:44Z</dcterms:modified>
  <cp:revision>7</cp:revision>
  <dc:subject/>
  <dc:title>Dirt, hygiene, defecation</dc:title>
</cp:coreProperties>
</file>