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E47A-C486-4BC5-9B8F-9395551EC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emplate can be used as a starter file for presenting training materials in a group set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-click on a slide to add sections. Sections can help to organize your slides or facilitate collaboration between multiple auth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Notes section for delivery notes or to provide additional details for the audience. View these notes in Presentation View during your present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the font size (important for accessibility, visibility, videotaping, and online produ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ordinated col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 particular attention to the graphs, charts, and text box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at attendees will print in black and white or grayscale. Run a test print to make sure your colors work when printed in pure black and white and graysca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phics, tables, and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t simple: If possible, use consistent, non-distracting styles and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all graphs and 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6F85-26B8-45C8-9063-69D24A44B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E85B-C050-4C55-A803-AC05E499483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39D0-AFB2-4874-A135-7AA42784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DF6-0E2A-40E0-A12C-A26157D2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84D-51D9-4BFD-86AE-D9454E93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B6B3-BEAE-49B5-8FD1-1129CD30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D3F1-9A9F-4849-A782-22F3913A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7403-F68D-4E2B-B817-9C2C67EE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5821-B515-4857-9BA0-130048BF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5D01-BF26-45BB-AC1F-13BB197C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DC24-2200-4CC2-8F18-E7057F72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010F-FC2C-4B9E-A207-E470308B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51BF-618C-46FB-9C36-20CEA689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CB8A-9882-4313-85C3-30E4CD94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61D7-2A2E-4DB8-8BAA-E41E32C3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42BB-8EE4-422B-9914-920DB2C9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5F3D-725E-4B64-8F9B-B1355FA6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FF6A-79B7-44C8-9D47-DEC041EB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7DF3-51BD-4D7D-9648-398DA941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F95A-5A78-4918-B4C6-0B875EF9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46CE3-0201-4CE3-B6A8-A3BD47CC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C70F4-3B1A-443D-BE05-F872281F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CA6B0-9466-4249-A93E-28900ECC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F7F-F64A-44F7-8A3F-90908BB3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DE9C4-C819-4D66-978D-5E36E192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1DFAD-5AE4-4038-9520-DAC12088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B8923-DE46-4AC5-97E1-07F4E056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F8F4E-4CE8-4715-B953-9EC3C057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93FF2-F918-40BD-8F39-1EB83075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E3C83-48CF-4211-80AE-B5124350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245CC-1220-4813-A681-C5A41A18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0D432-5257-4AD2-AF9A-C48DDCE1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32C94-8428-493C-91CD-642A48AC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CBE2D-6241-4BF7-B8A0-4D0A2477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45A6-190E-4515-A36A-93CEDD34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0100D-E20B-4D9B-B31B-95B8A935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BFB6D-2C93-459E-835B-A6FE8F84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CF65F-E5E3-4D89-935E-81641D1B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0D5B6-D238-4983-908A-F63DBB28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12042-8963-492E-BF8F-7507F0CD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BF684-BAA2-4C52-A22D-16335989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9F479-BDFB-4408-86A2-50463D6F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4470F-3E8A-4493-8561-9A9F55E4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D4DFC-65D9-4BA5-8A30-8A8C5B3C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57B8D-6525-416F-B1D8-30081344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716-CBBA-4772-806F-CC4A36F0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8FE8E-E117-4FC5-AD2A-3A82EB6C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09E53-C2B7-421E-B9B4-F0AFAC6E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4E127-4523-4142-AB64-68868B1C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17B95-0D56-4DCE-9961-65BC838D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AEE08-A69A-42F6-A95D-E688E0E3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7BF9C-0984-4EEA-959B-B55A99EA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B565B-3C77-4F67-8CC0-9DEB0586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81D11-FA74-44AB-8A1B-247AA1C0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C2BFB-4D22-4CB8-80AC-05D0A976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B640B-7C3A-47D3-9711-3D34274E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25A8-BD5E-4388-A987-A57B13DD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3BF1C-00F3-45D4-B87C-26E8A1F8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4F0B9-FF39-4088-BB57-217F06B1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F1C1D-4D1D-467D-975C-EF2F8164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EF5C-11E4-4850-AAC5-63EE60AB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E9A4-9699-44AB-8E3E-41E0529B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0AFC-D08E-4553-8BA9-BA883C8ADD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-15840" y="0"/>
            <a:ext cx="9172440" cy="2819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EE26-CE96-4D13-B248-E94603C7CF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390E-8B3B-4DA3-B1A9-BA0751FEA0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23E5-D2EC-4421-AE28-C99C1EB18D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29CC-FA37-4433-AAC3-A74C28AFEA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90560" y="2285640"/>
            <a:ext cx="61801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ROLE OF MEDICAL ANTHROPOLOGY IN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962160" y="4038480"/>
            <a:ext cx="4771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haduz Zaman Ph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castle University, 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Diagram 2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2"/>
          <p:cNvGraphicFramePr/>
          <p:nvPr/>
        </p:nvGraphicFramePr>
        <p:xfrm>
          <a:off x="0" y="11592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592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lanatory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llness 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y cau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ational for choosing heal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act on lif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allel health sec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Diagram 1" descr=""/>
          <p:cNvPicPr/>
          <p:nvPr/>
        </p:nvPicPr>
        <p:blipFill>
          <a:blip r:embed="rId1"/>
          <a:stretch/>
        </p:blipFill>
        <p:spPr>
          <a:xfrm>
            <a:off x="1030320" y="176040"/>
            <a:ext cx="8126280" cy="646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Diagram 1" descr=""/>
          <p:cNvPicPr/>
          <p:nvPr/>
        </p:nvPicPr>
        <p:blipFill>
          <a:blip r:embed="rId1"/>
          <a:stretch/>
        </p:blipFill>
        <p:spPr>
          <a:xfrm>
            <a:off x="-12600" y="115920"/>
            <a:ext cx="913284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agram 1" descr=""/>
          <p:cNvPicPr/>
          <p:nvPr/>
        </p:nvPicPr>
        <p:blipFill>
          <a:blip r:embed="rId1"/>
          <a:stretch/>
        </p:blipFill>
        <p:spPr>
          <a:xfrm>
            <a:off x="-648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edu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Content Placeholder 3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26580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11488b"/>
                </a:solidFill>
                <a:latin typeface="Calibri"/>
              </a:rPr>
              <a:t>How population developed health perception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Content Placeholder 3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810108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11488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is therefore important to consider the following question while thinking of  policies in health interven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Diagram 1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621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nical  Medicine and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57200" y="1600200"/>
          <a:ext cx="8229600" cy="4799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ncer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and Health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rp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Promotion and Disease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Diagram 1" descr=""/>
          <p:cNvPicPr/>
          <p:nvPr/>
        </p:nvPicPr>
        <p:blipFill>
          <a:blip r:embed="rId1"/>
          <a:stretch/>
        </p:blipFill>
        <p:spPr>
          <a:xfrm>
            <a:off x="1116000" y="-12600"/>
            <a:ext cx="8028000" cy="688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omedicine and Medical set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spital Ethnogra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Content Placeholder 3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532764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ine t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Content Placeholder 3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83236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policy situat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Triangle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Content Placeholder 3" descr=""/>
          <p:cNvPicPr/>
          <p:nvPr/>
        </p:nvPicPr>
        <p:blipFill>
          <a:blip r:embed="rId1"/>
          <a:stretch/>
        </p:blipFill>
        <p:spPr>
          <a:xfrm>
            <a:off x="914400" y="1420920"/>
            <a:ext cx="77724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al histo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4" descr="fluhospital2"/>
          <p:cNvPicPr/>
          <p:nvPr/>
        </p:nvPicPr>
        <p:blipFill>
          <a:blip r:embed="rId1"/>
          <a:stretch/>
        </p:blipFill>
        <p:spPr>
          <a:xfrm>
            <a:off x="762120" y="2362320"/>
            <a:ext cx="769608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aster  ( Natural and Man Mad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17440"/>
            <a:ext cx="8578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88b"/>
                </a:solidFill>
                <a:latin typeface="Calibri"/>
              </a:rPr>
              <a:t>How Medical Anthropology contributes in public heal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Content Placeholder 9" descr=""/>
          <p:cNvPicPr/>
          <p:nvPr/>
        </p:nvPicPr>
        <p:blipFill>
          <a:blip r:embed="rId1"/>
          <a:stretch/>
        </p:blipFill>
        <p:spPr>
          <a:xfrm>
            <a:off x="0" y="1401840"/>
            <a:ext cx="9144000" cy="5468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228600" y="115920"/>
          <a:ext cx="8915400" cy="68342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13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als wit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ic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comes to the provi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 goes to the cl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ilosoph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bjec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ne, Surgery. Gynec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miology, Statistics, Economics, Anthropology, Political scien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Content Placeholder 3" descr="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1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Diagram 1" descr=""/>
          <p:cNvPicPr/>
          <p:nvPr/>
        </p:nvPicPr>
        <p:blipFill>
          <a:blip r:embed="rId1"/>
          <a:stretch/>
        </p:blipFill>
        <p:spPr>
          <a:xfrm>
            <a:off x="109440" y="176040"/>
            <a:ext cx="8858520" cy="657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2440" y="5013000"/>
            <a:ext cx="5486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cial determinants of Heal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Placeholder 4" descr=""/>
          <p:cNvPicPr/>
          <p:nvPr/>
        </p:nvPicPr>
        <p:blipFill>
          <a:blip r:embed="rId1"/>
          <a:stretch/>
        </p:blipFill>
        <p:spPr>
          <a:xfrm>
            <a:off x="1187280" y="690480"/>
            <a:ext cx="6769440" cy="4106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ying attention to Causes of Causes’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Medical Anthropologists do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peoples health seeking behaviour and parallel health sec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tributes in developing and communicating health inform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ries to understand biomedicine and medical settin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the social, political and economic health policy environ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earn about medical histor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elps to find out ways to deal with disaster situ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s Health seeking behavi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1488b"/>
                </a:solidFill>
                <a:latin typeface="Comic Sans MS"/>
              </a:rPr>
              <a:t>Medical  Pluralism </a:t>
            </a:r>
            <a:r>
              <a:rPr b="0" lang="en-GB" sz="4400" spc="-1" strike="noStrike">
                <a:solidFill>
                  <a:srgbClr val="11488b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514600" y="1219320"/>
            <a:ext cx="4267080" cy="2684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pular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685800" y="3870360"/>
            <a:ext cx="3886200" cy="2128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ofressional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572000" y="3429000"/>
            <a:ext cx="350532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olk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267080" y="5334120"/>
            <a:ext cx="12956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5410080" y="5791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ssible overl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2057040" y="1523520"/>
            <a:ext cx="12193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0" y="1371600"/>
            <a:ext cx="2362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individ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3962520" y="3429000"/>
            <a:ext cx="753840" cy="211284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7238880" y="1523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238880" y="152388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Not part of official medical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25"/>
          <p:cNvSpPr/>
          <p:nvPr/>
        </p:nvSpPr>
        <p:spPr>
          <a:xfrm flipV="1">
            <a:off x="6781680" y="2924280"/>
            <a:ext cx="1067040" cy="149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26"/>
          <p:cNvSpPr/>
          <p:nvPr/>
        </p:nvSpPr>
        <p:spPr>
          <a:xfrm>
            <a:off x="304920" y="6324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egally sanctio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27"/>
          <p:cNvSpPr/>
          <p:nvPr/>
        </p:nvSpPr>
        <p:spPr>
          <a:xfrm flipH="1">
            <a:off x="1523520" y="4876920"/>
            <a:ext cx="83844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2:02:04Z</dcterms:created>
  <dc:creator/>
  <dc:description/>
  <dc:language>en-US</dc:language>
  <cp:lastModifiedBy/>
  <dcterms:modified xsi:type="dcterms:W3CDTF">2013-12-08T19:16:59Z</dcterms:modified>
  <cp:revision>1</cp:revision>
  <dc:subject/>
  <dc:title/>
</cp:coreProperties>
</file>