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A2E4-D299-4D9F-8841-5A616437EE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icture: Birzeit University, Pal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ealth beliefs: how patients access services, participate in treatment decisions and their social context all influence the management of chronic conditions and are important for health outcomes (Saks &amp; Allsop 2007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review of the relevant literature is also being undertaken, to set the context for this piece of work re: the health policy, health interventions and epidemiological work in the 4 partner countries plus Egypt, Jordan, Algeria and Morocc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4802-C87F-45FD-8DB9-4BB1303972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2ECF-AC9A-498E-BF84-18EB9064F28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822E-7B23-41AD-9A80-0F03061CE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08AA-EDD3-4A10-A988-5B595F67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B110-BE8F-4513-B68D-4A5143D6C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9BA9-DA3C-4290-B81D-D05894D6E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CBC4-F552-4F90-820C-68A52481F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E55E-6081-48AE-A3A5-8199AE1A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71172-2685-4F9F-B2FC-97A56F21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1F52D-E4E6-4007-B793-9EE67468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BE5A-5054-4C23-880D-A9AC40DE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0E9D5-2010-4437-A042-85CE7B66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5CBF-A731-42D0-901A-E6071466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8990-ECBD-495C-80C9-266AD98B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5833-5909-4722-A7D6-3AB7DAAB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0BCD-B67C-4D9D-B7DC-67135857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DCCB3-C665-4C96-AB82-BC82523C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3068-88E2-4890-B3A1-364DAFB90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718D2-6A8D-4593-8D99-6926796C6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B4D18-95B6-49C5-A8D7-A13A943FE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76882-72EF-4E0F-BD34-80415171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A4456-6A8C-43EF-ADEA-AFF0A7C6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60A66-C080-4836-85A7-C669FB04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7C3C0-CFBC-424B-964F-20039239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8112-76B7-42D8-9084-E8FB9F66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74515-BAAA-4601-BFE7-FAA1EE80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0612A-D3A3-4890-8B14-03CE7136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3F200-57AC-4099-8511-619E4B83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4F0CF-89CC-4C43-929C-2A84D65E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AFBB6-9DDE-42A1-8B47-77FC64F3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B6EAC-39B9-4A74-A613-0027E3BE3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AAC09-C2BC-47DC-9E01-2D572C32A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F085C-F6E0-4FFC-B325-3CD58595F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75D8A-4435-4646-9190-F0A6022E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DD311-0DAC-4E46-9FD1-FB9CA514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046D-8494-4D51-AEDB-57285C5E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EE796-2F90-4939-AF83-F703A9A3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B44E5-A798-4B57-8D58-77E6FC9E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F598C-68A3-4994-B867-A094DD0E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401D8-9A03-46E4-88BB-84562D70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D9B27-BF28-4F66-9DFF-CECCE734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1ECA3-979B-4F81-A8F5-7D6DEE8E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E35E6-1D99-4680-9FBE-D0FFC563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AF4B8-E733-4629-8AB6-CA0F8B78E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564FD-B083-40DA-B694-C5B85DAF2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29440-907B-4D0C-A5FD-CE76EFBFC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3BAD-B58A-473D-8696-44CDDFF8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5434A-4DCE-47DA-9D52-9BF719DB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FD2A8-0530-4199-82DF-6CFF86BF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4CB3E-47BB-461B-BC59-0887A007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F7765-7BBE-420C-A921-F70732B8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1D661-5F8E-4C3A-945D-77153A9A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BFB6C-81F9-43BB-AD31-BB98EB2A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B02D9-361B-480B-8EEA-14FCC11E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0B8A1-817B-414D-92A6-5339438A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9D7C5-B677-4889-9BD0-05F9D33F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A6568-D5D8-44DA-9F23-F169F613F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0563-40D5-4A8F-B97F-AA6C4727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43D38-89F2-45F1-A3D6-77201448F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767B6-F681-4C1F-8207-C24DAB9DB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42568-E462-4C62-97D5-01BAA655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6913C-AB4F-4194-B74E-74B96B9D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E264B-A03E-4988-BFA4-1B42C3BA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9793B-6279-415F-AD65-A2580CCF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A23E1-A697-4F56-B6FE-E51E8468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C08FE-771A-4AD8-B073-5D6BD43F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AE1B5-326B-47E5-974A-48F5450A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D0097-9A43-4D24-A7CA-D39E9C23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331C-CE72-4BBA-9A60-29EA2EC3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72659-4F42-4628-B880-60CB81A0D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30235-9953-42D2-8B8A-619872A76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232D6-7A23-43C5-AF96-9CE1901C2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A269D-6E50-459F-B717-9C360562C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0BE09-BAE5-455B-AB43-91771AF9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D871C-6C6F-454B-9426-9C54FF71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27116-CCB2-470E-B04D-932E960B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11E8A-C59F-4DE0-AEF9-7D8BBDC9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29D92-D857-4B10-AE9F-2C51309C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9FEEE-A106-460B-90C8-6BD4A332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9F1B-2A09-472B-A023-CDBC45C9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F6E92-59F1-4DA3-BE11-B2734C54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3285D-007C-484A-B110-A5333180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5D8E1-AC8E-401E-AFA9-C9DCBDE4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C0529-FD8F-46B5-AEE9-B6F114DC0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001CB-5B82-4EF4-8C4C-E08242C98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43FB-C37C-4907-B266-EE8C1B05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93F5-9F75-4F04-9397-EC14D77AA9DF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62AA-1A44-4E41-AF1B-46EE0734F04A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86D1-09B9-44F9-907D-D48290D123EA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1E40-B78C-4067-A0CC-D1B87F70B216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628E-8387-4527-9B60-0080654EDAC2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2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F2DF-24E3-4ACF-BC39-CA9C9FBB413F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0CAD-080E-462E-9922-7236A7B2971A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Health Policy Analysis Conceptual Framework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ndara"/>
              </a:rPr>
              <a:t>Shahaduz Zaman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ndara"/>
              </a:rPr>
              <a:t>Newcastle University, UK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Diagram 1" descr=""/>
          <p:cNvPicPr/>
          <p:nvPr/>
        </p:nvPicPr>
        <p:blipFill>
          <a:blip r:embed="rId1"/>
          <a:stretch/>
        </p:blipFill>
        <p:spPr>
          <a:xfrm>
            <a:off x="0" y="109440"/>
            <a:ext cx="903456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Diagram 1" descr=""/>
          <p:cNvPicPr/>
          <p:nvPr/>
        </p:nvPicPr>
        <p:blipFill>
          <a:blip r:embed="rId1"/>
          <a:stretch/>
        </p:blipFill>
        <p:spPr>
          <a:xfrm>
            <a:off x="109440" y="189000"/>
            <a:ext cx="87854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Diagram 1" descr=""/>
          <p:cNvPicPr/>
          <p:nvPr/>
        </p:nvPicPr>
        <p:blipFill>
          <a:blip r:embed="rId1"/>
          <a:stretch/>
        </p:blipFill>
        <p:spPr>
          <a:xfrm>
            <a:off x="176040" y="255600"/>
            <a:ext cx="864396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Diagram 1" descr=""/>
          <p:cNvPicPr/>
          <p:nvPr/>
        </p:nvPicPr>
        <p:blipFill>
          <a:blip r:embed="rId1"/>
          <a:stretch/>
        </p:blipFill>
        <p:spPr>
          <a:xfrm>
            <a:off x="23760" y="0"/>
            <a:ext cx="9144000" cy="66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An Example of using Policy triangle framework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Mediterranean studies of Cardiovascular diseases and Hyperglycaemia: analytical Modelling of Population Socio-economic transitions </a:t>
            </a:r>
            <a:r>
              <a:rPr b="0" i="1" lang="en-GB" sz="2400" spc="-1" strike="noStrike">
                <a:solidFill>
                  <a:srgbClr val="ff0000"/>
                </a:solidFill>
                <a:latin typeface="Candara"/>
              </a:rPr>
              <a:t>(MEDCHAMPS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73e87"/>
                </a:solidFill>
                <a:latin typeface="Candara"/>
              </a:rPr>
              <a:t>Developing a CVD and diabetes model for use within the project countries, in order to explain trends and predict likely future impact of disease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73e87"/>
                </a:solidFill>
                <a:latin typeface="Candara"/>
              </a:rPr>
              <a:t>Defining the national policy context and characterising the health system for developing  policy options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MEDCHAMPS objectives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http://www.birzeit.edu/files/la/17240/pic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125280" y="-200160"/>
            <a:ext cx="9262800" cy="70581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Situation analysis (1)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1" name="TextBox 3"/>
          <p:cNvSpPr/>
          <p:nvPr/>
        </p:nvSpPr>
        <p:spPr>
          <a:xfrm>
            <a:off x="5334120" y="4068720"/>
            <a:ext cx="16761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Barri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Box 4"/>
          <p:cNvSpPr/>
          <p:nvPr/>
        </p:nvSpPr>
        <p:spPr>
          <a:xfrm>
            <a:off x="1600200" y="3429000"/>
            <a:ext cx="1143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Health serv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xtBox 5"/>
          <p:cNvSpPr/>
          <p:nvPr/>
        </p:nvSpPr>
        <p:spPr>
          <a:xfrm>
            <a:off x="1600200" y="4383000"/>
            <a:ext cx="1143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Health belief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TextBox 6"/>
          <p:cNvSpPr/>
          <p:nvPr/>
        </p:nvSpPr>
        <p:spPr>
          <a:xfrm>
            <a:off x="5181480" y="2279520"/>
            <a:ext cx="19051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Health outcom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TextBox 7"/>
          <p:cNvSpPr/>
          <p:nvPr/>
        </p:nvSpPr>
        <p:spPr>
          <a:xfrm>
            <a:off x="3581280" y="2286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influ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TextBox 8"/>
          <p:cNvSpPr/>
          <p:nvPr/>
        </p:nvSpPr>
        <p:spPr>
          <a:xfrm>
            <a:off x="3352680" y="3800520"/>
            <a:ext cx="16002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Qualitative data from key stakehold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Box 9"/>
          <p:cNvSpPr/>
          <p:nvPr/>
        </p:nvSpPr>
        <p:spPr>
          <a:xfrm>
            <a:off x="5334120" y="3429000"/>
            <a:ext cx="16761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Ga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Box 10"/>
          <p:cNvSpPr/>
          <p:nvPr/>
        </p:nvSpPr>
        <p:spPr>
          <a:xfrm>
            <a:off x="1600200" y="2478240"/>
            <a:ext cx="1143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Health polic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Box 11"/>
          <p:cNvSpPr/>
          <p:nvPr/>
        </p:nvSpPr>
        <p:spPr>
          <a:xfrm>
            <a:off x="5334120" y="4724280"/>
            <a:ext cx="1676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Opportunities for implementing chan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Box 12"/>
          <p:cNvSpPr/>
          <p:nvPr/>
        </p:nvSpPr>
        <p:spPr>
          <a:xfrm>
            <a:off x="7391520" y="3790800"/>
            <a:ext cx="15238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Informs policy op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Box 13"/>
          <p:cNvSpPr/>
          <p:nvPr/>
        </p:nvSpPr>
        <p:spPr>
          <a:xfrm>
            <a:off x="152280" y="3429000"/>
            <a:ext cx="1143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Analysis of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Left Brace 15"/>
          <p:cNvSpPr/>
          <p:nvPr/>
        </p:nvSpPr>
        <p:spPr>
          <a:xfrm>
            <a:off x="1295280" y="2819520"/>
            <a:ext cx="304920" cy="1904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20 h 1904760"/>
              <a:gd name="textAreaBottom" fmla="*/ 189684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4"/>
                  <a:pt x="10800" y="288"/>
                </a:cubicBezTo>
                <a:lnTo>
                  <a:pt x="10800" y="10512"/>
                </a:lnTo>
                <a:cubicBezTo>
                  <a:pt x="10800" y="10656"/>
                  <a:pt x="5400" y="10800"/>
                  <a:pt x="0" y="10800"/>
                </a:cubicBezTo>
                <a:cubicBezTo>
                  <a:pt x="5400" y="10800"/>
                  <a:pt x="10800" y="10944"/>
                  <a:pt x="10800" y="11088"/>
                </a:cubicBezTo>
                <a:lnTo>
                  <a:pt x="10800" y="21312"/>
                </a:lnTo>
                <a:cubicBezTo>
                  <a:pt x="10800" y="2145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83" name="Straight Arrow Connector 17"/>
          <p:cNvCxnSpPr>
            <a:endCxn id="375" idx="1"/>
          </p:cNvCxnSpPr>
          <p:nvPr/>
        </p:nvCxnSpPr>
        <p:spPr>
          <a:xfrm flipV="1">
            <a:off x="3047760" y="2469600"/>
            <a:ext cx="533880" cy="4258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384" name="Straight Arrow Connector 20"/>
          <p:cNvCxnSpPr>
            <a:stCxn id="375" idx="3"/>
            <a:endCxn id="374" idx="1"/>
          </p:cNvCxnSpPr>
          <p:nvPr/>
        </p:nvCxnSpPr>
        <p:spPr>
          <a:xfrm flipV="1">
            <a:off x="4724280" y="2463480"/>
            <a:ext cx="457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5" name="Elbow Connector 25"/>
          <p:cNvCxnSpPr>
            <a:stCxn id="376" idx="3"/>
            <a:endCxn id="379" idx="1"/>
          </p:cNvCxnSpPr>
          <p:nvPr/>
        </p:nvCxnSpPr>
        <p:spPr>
          <a:xfrm>
            <a:off x="4952520" y="4262400"/>
            <a:ext cx="381960" cy="1062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6" name="Elbow Connector 28"/>
          <p:cNvCxnSpPr>
            <a:stCxn id="376" idx="3"/>
            <a:endCxn id="377" idx="1"/>
          </p:cNvCxnSpPr>
          <p:nvPr/>
        </p:nvCxnSpPr>
        <p:spPr>
          <a:xfrm flipV="1">
            <a:off x="4952520" y="3612600"/>
            <a:ext cx="381960" cy="649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7" name="Elbow Connector 31"/>
          <p:cNvCxnSpPr/>
          <p:nvPr/>
        </p:nvCxnSpPr>
        <p:spPr>
          <a:xfrm flipV="1">
            <a:off x="4952520" y="4242600"/>
            <a:ext cx="381960" cy="10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8" name="Elbow Connector 34"/>
          <p:cNvCxnSpPr>
            <a:stCxn id="377" idx="3"/>
            <a:endCxn id="380" idx="1"/>
          </p:cNvCxnSpPr>
          <p:nvPr/>
        </p:nvCxnSpPr>
        <p:spPr>
          <a:xfrm>
            <a:off x="7009920" y="3612960"/>
            <a:ext cx="381960" cy="640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9" name="Elbow Connector 37"/>
          <p:cNvCxnSpPr>
            <a:stCxn id="379" idx="3"/>
            <a:endCxn id="380" idx="1"/>
          </p:cNvCxnSpPr>
          <p:nvPr/>
        </p:nvCxnSpPr>
        <p:spPr>
          <a:xfrm flipV="1">
            <a:off x="7009920" y="4252680"/>
            <a:ext cx="381960" cy="1072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0" name="Elbow Connector 40"/>
          <p:cNvCxnSpPr>
            <a:stCxn id="371" idx="3"/>
            <a:endCxn id="380" idx="1"/>
          </p:cNvCxnSpPr>
          <p:nvPr/>
        </p:nvCxnSpPr>
        <p:spPr>
          <a:xfrm flipV="1">
            <a:off x="7009920" y="4252320"/>
            <a:ext cx="381960" cy="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1" name="Elbow Connector 46"/>
          <p:cNvCxnSpPr>
            <a:stCxn id="378" idx="3"/>
            <a:endCxn id="376" idx="1"/>
          </p:cNvCxnSpPr>
          <p:nvPr/>
        </p:nvCxnSpPr>
        <p:spPr>
          <a:xfrm>
            <a:off x="2742840" y="2800080"/>
            <a:ext cx="610200" cy="1462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2" name="Elbow Connector 49"/>
          <p:cNvCxnSpPr>
            <a:stCxn id="373" idx="3"/>
            <a:endCxn id="376" idx="1"/>
          </p:cNvCxnSpPr>
          <p:nvPr/>
        </p:nvCxnSpPr>
        <p:spPr>
          <a:xfrm flipV="1">
            <a:off x="2742840" y="4262040"/>
            <a:ext cx="610200" cy="443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3" name="Elbow Connector 53"/>
          <p:cNvCxnSpPr>
            <a:stCxn id="372" idx="3"/>
            <a:endCxn id="376" idx="1"/>
          </p:cNvCxnSpPr>
          <p:nvPr/>
        </p:nvCxnSpPr>
        <p:spPr>
          <a:xfrm>
            <a:off x="2742840" y="3752640"/>
            <a:ext cx="610200" cy="510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4" name="Title 1"/>
          <p:cNvSpPr/>
          <p:nvPr/>
        </p:nvSpPr>
        <p:spPr>
          <a:xfrm>
            <a:off x="457200" y="838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Arial"/>
              </a:rPr>
              <a:t>Translating recommended interventions to different cultural sett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Objectives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Using established schematic frameworks of potentially effective policy measures and health system interventions for the prevention of CVD and Type 2 diabetes in order to guide data collection and analysis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Identify, collating and systematically reviewing all relevant documentary materials on policies and health services provision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National situation analysis of current policy and health systems context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535680" indent="-2538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Exploring perception and knowledge of relevant national policies through interviews with key informant from relevant organisations, including government, the health sector, private sector and non governmental organizations (including patient group)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Exploring health beliefs with potential target groups, and determining whether these differ by population group.  Including by gender and socio economic group.   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Content Placeholder 3" descr=""/>
          <p:cNvPicPr/>
          <p:nvPr/>
        </p:nvPicPr>
        <p:blipFill>
          <a:blip r:embed="rId1"/>
          <a:stretch/>
        </p:blipFill>
        <p:spPr>
          <a:xfrm>
            <a:off x="324000" y="2676600"/>
            <a:ext cx="8648640" cy="34495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00"/>
                </a:solidFill>
                <a:latin typeface="Candara"/>
              </a:rPr>
              <a:t>What does a health policy analysis involve?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A. Situation analyses of current policy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National/Regional/District overview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B. Health system contexts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Local orientation alongside the national orientation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Two focuses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Candara"/>
              </a:rPr>
              <a:t>The project therefore envisages appraising existing situations in partner countries on three different levels:</a:t>
            </a: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3" name="Diagram 2" descr=""/>
          <p:cNvPicPr/>
          <p:nvPr/>
        </p:nvPicPr>
        <p:blipFill>
          <a:blip r:embed="rId1"/>
          <a:stretch/>
        </p:blipFill>
        <p:spPr>
          <a:xfrm>
            <a:off x="66600" y="1395360"/>
            <a:ext cx="908388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Content Placeholder 3" descr=""/>
          <p:cNvPicPr/>
          <p:nvPr/>
        </p:nvPicPr>
        <p:blipFill>
          <a:blip r:embed="rId1"/>
          <a:stretch/>
        </p:blipFill>
        <p:spPr>
          <a:xfrm>
            <a:off x="804960" y="2651040"/>
            <a:ext cx="7480080" cy="348156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ndara"/>
              </a:rPr>
              <a:t>Level 1: Situation on the level of conceptualization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Diagram 1" descr=""/>
          <p:cNvPicPr/>
          <p:nvPr/>
        </p:nvPicPr>
        <p:blipFill>
          <a:blip r:embed="rId1"/>
          <a:stretch/>
        </p:blipFill>
        <p:spPr>
          <a:xfrm>
            <a:off x="249120" y="1908000"/>
            <a:ext cx="8723520" cy="36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871560" y="2349360"/>
            <a:ext cx="74088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Documentary materials on national policies, strategies, health systems and  financing concerning CVD and diabetes, including policy relevant to smoking, diet, physical activity and alcohol use.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Relevant documents on pricing and taxation, agricultural and transport policies.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Documentary materials on policies regarding national and local health service provisions, prescribing , prevention and risk factor management.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National and international guidelines on policy measures and health care structures and interventions developed by WHO, World Bank, World Heart Foundation, International Diabetes Care Interventions. 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Method:    Document analysi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Source of information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Content Placeholder 3" descr=""/>
          <p:cNvPicPr/>
          <p:nvPr/>
        </p:nvPicPr>
        <p:blipFill>
          <a:blip r:embed="rId1"/>
          <a:stretch/>
        </p:blipFill>
        <p:spPr>
          <a:xfrm>
            <a:off x="804960" y="2651040"/>
            <a:ext cx="7547040" cy="347508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ndara"/>
              </a:rPr>
              <a:t>Level 2: Situation on the level of Awareness and Commitment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Implementers and practitioners from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Government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Private sector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NGOs at national, regional, provincial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Community level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Method:    Key informant interview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Source of information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Content Placeholder 3" descr=""/>
          <p:cNvPicPr/>
          <p:nvPr/>
        </p:nvPicPr>
        <p:blipFill>
          <a:blip r:embed="rId1"/>
          <a:stretch/>
        </p:blipFill>
        <p:spPr>
          <a:xfrm>
            <a:off x="804960" y="2651040"/>
            <a:ext cx="7480080" cy="353700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ndara"/>
              </a:rPr>
              <a:t>Level 3: Situation on the level of practice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Patients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Care givers, medical practitioners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Accessed through sample of health care facilities in (a) urban and (b) rural settings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Method : In depth interviews, Illness narratives, Observations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Source of information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Merson, M., Black, R., Mills, A. (Eds) (2012) Global Health: Diseases, Programs, Systems and Policies.  London: Jones &amp; Bartlett Publisher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Ostrom, E. (2007) Institutional rational choice: as assessment of the institutional analysis and development framework. In Sabatier PA (ed) </a:t>
            </a:r>
            <a:r>
              <a:rPr b="0" i="1" lang="en-GB" sz="1800" spc="-1" strike="noStrike">
                <a:solidFill>
                  <a:srgbClr val="073e87"/>
                </a:solidFill>
                <a:latin typeface="Candara"/>
              </a:rPr>
              <a:t>Theories of the policy process</a:t>
            </a: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. Boulder, CO Westview Press pp 21-64. 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Walt, G. et al.  (2008) Doing’ health policy analysis: methodological and conceptual reflections and challenges.  </a:t>
            </a:r>
            <a:r>
              <a:rPr b="0" i="1" lang="en-GB" sz="1800" spc="-1" strike="noStrike">
                <a:solidFill>
                  <a:srgbClr val="073e87"/>
                </a:solidFill>
                <a:latin typeface="Candara"/>
              </a:rPr>
              <a:t>Health Policy and Planning </a:t>
            </a: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23:308–317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Reference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Diagram 1" descr=""/>
          <p:cNvPicPr/>
          <p:nvPr/>
        </p:nvPicPr>
        <p:blipFill>
          <a:blip r:embed="rId1"/>
          <a:stretch/>
        </p:blipFill>
        <p:spPr>
          <a:xfrm>
            <a:off x="12600" y="115920"/>
            <a:ext cx="9034560" cy="66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Content Placeholder 3" descr=""/>
          <p:cNvPicPr/>
          <p:nvPr/>
        </p:nvPicPr>
        <p:blipFill>
          <a:blip r:embed="rId1"/>
          <a:stretch/>
        </p:blipFill>
        <p:spPr>
          <a:xfrm>
            <a:off x="865080" y="1914480"/>
            <a:ext cx="7425000" cy="421164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onceptual frameworks provide a particular perspective, or lens, through which to examine a topic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Frameworks organize inquiry by identifying elements and relationships among elements that needs to be considered for theory building. </a:t>
            </a:r>
            <a:r>
              <a:rPr b="0" i="1" lang="en-GB" sz="2400" spc="-1" strike="noStrike">
                <a:solidFill>
                  <a:srgbClr val="073e87"/>
                </a:solidFill>
                <a:latin typeface="Candara"/>
              </a:rPr>
              <a:t>( Ostrom 2007)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framework helps to contextualize the ‘</a:t>
            </a:r>
            <a:r>
              <a:rPr b="0" lang="en-GB" sz="2400" spc="-1" strike="noStrike">
                <a:solidFill>
                  <a:srgbClr val="ff0000"/>
                </a:solidFill>
                <a:latin typeface="Candara"/>
              </a:rPr>
              <a:t>health policy environment.’</a:t>
            </a: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Content Placeholder 4" descr=""/>
          <p:cNvPicPr/>
          <p:nvPr/>
        </p:nvPicPr>
        <p:blipFill>
          <a:blip r:embed="rId1"/>
          <a:stretch/>
        </p:blipFill>
        <p:spPr>
          <a:xfrm>
            <a:off x="450720" y="1116000"/>
            <a:ext cx="8248680" cy="556596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Three major health policy analysis frameworks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Content Placeholder 3" descr=""/>
          <p:cNvPicPr/>
          <p:nvPr/>
        </p:nvPicPr>
        <p:blipFill>
          <a:blip r:embed="rId1"/>
          <a:stretch/>
        </p:blipFill>
        <p:spPr>
          <a:xfrm>
            <a:off x="914400" y="1407960"/>
            <a:ext cx="7772400" cy="47070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Policy Triangle Framework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6T14:26:51Z</dcterms:created>
  <dc:creator>nsz4</dc:creator>
  <dc:description/>
  <dc:language>en-US</dc:language>
  <cp:lastModifiedBy>User</cp:lastModifiedBy>
  <cp:lastPrinted>2013-05-28T10:45:51Z</cp:lastPrinted>
  <dcterms:modified xsi:type="dcterms:W3CDTF">2013-05-31T23:38:47Z</dcterms:modified>
  <cp:revision>21</cp:revision>
  <dc:subject/>
  <dc:title>Health Policy Analysis Framework</dc:title>
</cp:coreProperties>
</file>