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72E1-26BB-4951-AAB5-EF79BC70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DAB1-030C-4A9D-AE0C-EC0D9456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5CF-B2D6-4020-8C47-3397D520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41A1-EE87-4006-822A-DFE9D013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7F54-94DF-43C3-A6FC-A0D53BC3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9A1C-4485-4895-A5E0-7F329BA6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3105-71AA-4096-8FE7-98407313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9BE4-BFBC-4CD9-9DEB-6096EFEC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7F53-895A-42C5-8D90-F5BE05DF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F725-D69D-4A64-964F-9ED96221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7AC5-0081-4685-A73C-F83F2F3C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BB53-8FC4-4122-87B7-8D2A593B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DC5D-88E6-4E54-A073-F1A88E19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1C43-4F6C-4DC6-8412-119BE164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C0BA-321A-4A07-95ED-A1208411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B518-61E7-4A01-8FF3-41C3260F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041F-5EEF-4200-BF19-290A46EE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3F5A3-5E35-4A9E-97DF-3CD6D747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774EF-72C5-4C55-A8A0-5F0BC6C5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B29F2-0D57-4DBB-91E8-8EEDF658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7B7F0-D4BC-4626-8B71-3FB312FE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CF985-0FD3-4681-8DF2-9E09D571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4DD9-E483-42E3-AAA9-D6A5B3FC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115DE-0376-49F7-828E-A6D6CC5D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85D58-AA5E-43F6-981A-23C814E9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1370C-B625-4380-9DF3-B6ADD15F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8ED2B-8D9C-45DC-880D-5220D76D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20DFA-3EAD-4D64-A185-535475AB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2C496-B8C9-40B8-91D6-72E95724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664D8-C2B1-48FB-BD5E-71A0D317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5C5D1-D5EC-483B-B3BD-6FE6AE2E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07F87-DF50-4F04-9A20-6C7861CE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8F692-2A90-45F4-A8EB-A6E03916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F02B-A026-4084-99D2-3BC5063A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82C98-4933-47B2-BF04-D80763A6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5311B-E4E8-4BAE-8CBC-BAE26473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18FB6-AC2F-44C5-A1D4-258A4C25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3EC90-AE35-49E3-AA63-B7CDC104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DA93E-3737-48B7-8856-560424AA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EA692-7583-43A5-8364-6742FA55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92E45-0F93-4CAC-9537-6D293F43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ACEA6-C283-440A-9367-834BD94F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56F2B-41F0-4F51-9244-A0706A91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7717D-86B6-43A4-A4EA-9F5A9AE5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5B8-C528-4A20-A1FD-B2BA1099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80892-A126-4AAB-A417-233DBA57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E1625-DCB8-46EC-AE4B-6D69DBAD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102AE-D07E-4DA3-A782-0D62274A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C0CD5-B5E4-4525-A682-A39E1F9B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75B90-E6AF-4583-B98D-150568A0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029EE-D045-40E4-9733-ABCA7461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95FB8-6158-4984-A04B-55319C67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1AA0E-3660-4B4E-96F4-5A285B8C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89EF8-8793-48E5-A562-CC37D4A1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D3C78-EFAB-4C56-A4E5-245BA029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F9EE-F3FA-4ADD-99AE-5001C2A6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4E87B-622B-428F-BD18-C5990D51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69870-4D7A-465C-80E1-CA2F582F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39A5C-75B8-4175-9956-FDD70013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35F42-FE47-47CE-9221-AF292537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7011D-B85A-47FE-B8D3-E5A35AE3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CBC88-0D46-4B8E-ABC1-6DE8C210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0F315-DDA2-446F-A005-8B6F4B90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2EFC1-239E-47AB-94DB-B0A04718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15E35-54D3-4FAE-80AC-E65F4873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4D546-62A6-4077-BA81-21D38A2D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466-88CD-4C52-A685-E88D1358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FFBA0-A3DE-427C-8554-9D101736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D85FA-D234-4258-94C7-67CE3AB2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B0B27-C645-4E1B-A827-AEC882DC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59BE1-6C3F-4D8B-81C0-B143AE38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BD77B-741D-4CAB-87ED-6393A95C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C4C7A-D0AC-4E45-AD9B-20A8C243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47847-7261-4ED9-95DF-AD95869E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16A87-141A-4155-902E-29329D0B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79F92-E6F7-48C1-B5C8-BB572E6C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BDE2E-16FB-47D1-8979-E9DDCAAB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D000-3C51-4B87-AA63-FD3184B0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BC1B1-DB84-4A6E-906B-0C8A25BE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2AABB-557D-4357-9364-8F0A4953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EA4F6-3FDD-4DFF-A7CD-D5F198A3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1241C-9E6B-4D9C-AE6C-D4CB4C82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24CB9-9DF8-47BA-AAB1-95C5D9AC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6525-64A3-4C1F-8B44-BEDFACEE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3A65-840F-4105-B783-DCB062A82AE4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2BD9-9937-42CF-A113-BFFC6A4A27C6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A2D5-376F-4A63-A4EC-68BB9A2AE0ED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A087-7BB6-4008-AA47-EE66165F5F4F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BBB7-B33F-4BC5-8C14-8611F26A76C3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4240-55C6-42CF-869C-AD8D52555BBF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0461-07BC-4A4E-A2CD-F07F1BF3DED6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5560" y="148428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RESCAP-MED Capacity Development Workshop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Health Policy Evaluatio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Amman, Jorda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3-6 June 2013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55560" y="3933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Picture 5" descr="http://research.ncl.ac.uk/media/sites/researchwebsites/rescapmed/EUlogo.jpg"/>
          <p:cNvPicPr/>
          <p:nvPr/>
        </p:nvPicPr>
        <p:blipFill>
          <a:blip r:embed="rId1"/>
          <a:stretch/>
        </p:blipFill>
        <p:spPr>
          <a:xfrm>
            <a:off x="262080" y="244440"/>
            <a:ext cx="811080" cy="5302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http://research.ncl.ac.uk/media/sites/researchwebsites/rescapmed/FP7logo2.jpg"/>
          <p:cNvPicPr/>
          <p:nvPr/>
        </p:nvPicPr>
        <p:blipFill>
          <a:blip r:embed="rId2"/>
          <a:stretch/>
        </p:blipFill>
        <p:spPr>
          <a:xfrm>
            <a:off x="1073160" y="243000"/>
            <a:ext cx="695160" cy="530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"/>
          <p:cNvPicPr/>
          <p:nvPr/>
        </p:nvPicPr>
        <p:blipFill>
          <a:blip r:embed="rId3"/>
          <a:stretch/>
        </p:blipFill>
        <p:spPr>
          <a:xfrm>
            <a:off x="6732720" y="243000"/>
            <a:ext cx="2187360" cy="871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newcastle_master_col"/>
          <p:cNvPicPr/>
          <p:nvPr/>
        </p:nvPicPr>
        <p:blipFill>
          <a:blip r:embed="rId4"/>
          <a:stretch/>
        </p:blipFill>
        <p:spPr>
          <a:xfrm>
            <a:off x="365040" y="5732640"/>
            <a:ext cx="28069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basic concepts of health policy making and implementation proces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identify and analyse different stakeholders in policy making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health policy making in the globalizing world and the role of national and international players in the proces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cultural aspects of health and health polic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describe the health policy analysis framework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Understand the challenges of health policy implementation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Compare health policy situation between different developing countries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ndara"/>
              </a:rPr>
              <a:t>Learning objectives of the worksho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: Basic Concept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genda setting proces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keholder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globalizing world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ulturally competent health policy: Developing country contex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context of political crisi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Role of research in 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Analysis Framewor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ase Studie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Palestine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Syri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Jord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Implementation: Experiences from Jorda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brief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anel Discussion and Q &amp; 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r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Group reading of selected health policy evaluation pap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resentations of the group reading and Q&amp;A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losing remarks and Evaluation of the workshop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4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7200" y="2421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Shahaduz Zaman, 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otasem Hamdan, Palestine, Al-Quds University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bdullatif Husseini, Palestine, Birzeit Universit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Fouad Fouad, Syria, American University of Beirut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73e87"/>
                </a:solidFill>
                <a:latin typeface="Candara"/>
              </a:rPr>
              <a:t>Yousef Khader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, 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usa Ajlouni, 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Riyad Amin Okour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Jamal Abu Saif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Facilitator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rt on time—End on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aintain a flexible, responsive schedule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nly one person talks at a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y question is a good questi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ell phones are turned off during session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ome group norm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Enjoy the workshop 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10:17:01Z</dcterms:created>
  <dc:creator>nsz4</dc:creator>
  <dc:description/>
  <dc:language>en-US</dc:language>
  <cp:lastModifiedBy>User</cp:lastModifiedBy>
  <dcterms:modified xsi:type="dcterms:W3CDTF">2013-05-31T23:41:13Z</dcterms:modified>
  <cp:revision>8</cp:revision>
  <dc:subject/>
  <dc:title>PowerPoint Presentation</dc:title>
</cp:coreProperties>
</file>