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F369-242E-46E1-B5F0-DABE85CF93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0C0C-6F77-4F5B-8287-1E9617A928F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E617-103E-4587-A571-0FD3292FE4E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F284-F648-4656-A8AC-6A67A1BFB02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834F-22BC-426F-BC24-FB7DD763AD74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2AEC-7233-44C2-A194-311A0720D80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DF88-355B-4736-AC33-81775BE921C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0167-0B96-4BA6-B3FC-E85B8DA9D38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33AD-71B4-418C-B3F0-3A3CD217646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57E1-CAC1-4F50-8183-CEDBC055899C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4CAD-8150-4D87-9E22-45648681080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F063-EE32-4E21-9335-80036208A3A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io factors that get you to attend one hos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DF03-E009-4BBF-8487-EC0B87C81BC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6417-739D-4B2D-837D-F05DB60B4F4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7C27-CA29-441B-889F-DED6B4F6894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62FC-BB48-4600-8E94-DFCDD8617DE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ADD7-7D8F-4F08-81D1-55448E8B0F97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3B43-C703-4E12-8ABD-79CDE4BAA04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87C4-FC76-4986-A6CA-7D6FEC18270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D31B-CE02-431F-9456-42B827A7320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C6ED-F72D-457F-A9E0-AC81B7000E9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F049-9927-4811-8222-4A6AB552559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AD48-CFE5-4219-9339-4A699C129FB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3F27-D7F1-4D2B-8271-5C0BE47430E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D28A-493B-4108-9EF5-739D8AE8C8FC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50F1-31C3-4949-9FB7-7B1AC2AF1EA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91A7-D392-457A-95A6-445A338E410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695E-FFE9-40AA-BDA9-F5EF4860880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ADBA-AB5E-48EC-961C-ECE857C7FFEC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A2AF-0373-4D82-B53D-0D26C537221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0B67-90FD-4531-8557-65946A8ABB1C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F57-8876-4D44-8C29-4B9EDC46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62A-5C8B-45BA-BA1D-47051A72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3B06-022D-48A7-9E1E-8ABC0D62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6A4-AE04-4B1D-A0D8-807F0424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5EB0-0575-4463-8DF9-7DDA300F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065E-0ED9-4D53-B10A-3C000B99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758C-FB4B-457F-A629-34FDEB68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C8DF-3B26-44BB-B47A-9C0D8ED9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8603-0FA3-4F32-B4EA-E9CEE309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9C05-DD3F-4040-BC82-318E04F6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7BA9-1C9B-4B0D-B151-33151ADD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38A-EF17-4E28-9F17-27CD432D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C3A1-1054-455B-ACE0-70EBCC91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3C0C-ECC7-4FC2-9346-4EA2ADB5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B579-459E-4F6A-AF02-462F9F8D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62CA-5D3F-4D48-96F1-650CDDB6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7D8C-B90C-4E7A-9FB2-A496EC0A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44D-DC93-40A5-9AC7-628E5AA1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1AB-4BEE-43CB-8DE9-8870D780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1F84-F0C1-4078-9F7D-CA8ECC3D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A22D-E77B-4C74-BFD5-39A2F553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8CC0-812A-495B-9BC2-EAF876B4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987-8BFF-46AB-A844-A28B72E7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612-56E9-40DC-9C51-405AA9F5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78C6-5AB4-4203-B915-E7938C249254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027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C94E-13B4-4ADC-857B-CAC734F38768}" type="slidenum">
              <a:rPr b="0" lang="en-GB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se-control stud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r Luis E Cuevas – LST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Julia Critchle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osure to risk factor/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1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219320" y="1752480"/>
            <a:ext cx="7315200" cy="426744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1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 exposure higher/lower in cas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1080" y="2057400"/>
            <a:ext cx="1524240" cy="60948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2440" y="965160"/>
            <a:ext cx="63118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en are these studies most useful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2398680"/>
            <a:ext cx="820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mited information on risk factors (some times carried out before cohort studi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idence of the disease is low (rare diseas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udy many risk factors simultaneous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7160" y="112680"/>
            <a:ext cx="8637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jor problem with case-control studies is bias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election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ifferences in people who select themselves for studies compared with those who do no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easurement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ividual measurements of disease or exposure are more likely to be incorr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call bias in case-contro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might you reduce these biases in practic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uggestion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762120" y="685800"/>
            <a:ext cx="33526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7315200" y="3048120"/>
            <a:ext cx="21337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38880" y="1523880"/>
            <a:ext cx="221004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85800" y="4419720"/>
            <a:ext cx="8458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are the factors that put a person at 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gher risk of suffering from CH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1828800"/>
            <a:ext cx="914400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3581280"/>
            <a:ext cx="9144000" cy="129564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hysical activity and risk of coronary heart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7238880" y="2819520"/>
            <a:ext cx="190512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191120" y="1828800"/>
            <a:ext cx="380988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 CH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038480" y="4191120"/>
            <a:ext cx="396252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out CH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600200" y="1905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676520" y="4267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1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11480" cy="5069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760680" y="533520"/>
            <a:ext cx="26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 defi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257800" y="2057400"/>
            <a:ext cx="35812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ealt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ent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ngle poi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erio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agn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5332320" y="609480"/>
            <a:ext cx="29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/s of c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0" y="1143000"/>
            <a:ext cx="9144000" cy="3808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5029200" y="5334120"/>
            <a:ext cx="304920" cy="68580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179280" y="4005360"/>
            <a:ext cx="4176720" cy="143964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179280" y="2205000"/>
            <a:ext cx="4191120" cy="165564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fficult and critical issu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dividuals who would have been selected as cases if they had the disease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ame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arability to cases essentia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urce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4476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pecial group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iends, neighbors, relativ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ideal control group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nalytical (Observational) Epidemio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im to identify potential associations between ‘risk’ factors and a particular disease or outco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971640" y="476280"/>
            <a:ext cx="33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s of contr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475680" y="19051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 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53080" y="2631960"/>
            <a:ext cx="21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limitations of the control group should be taken into account when interpreting findin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762120" y="1676520"/>
            <a:ext cx="5715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62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517680" y="1557360"/>
            <a:ext cx="4005000" cy="41767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539640" y="2492280"/>
            <a:ext cx="3961080" cy="93672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ll by defini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smok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alcoho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lati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tic 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cio-economic condit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ographical situ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lling to collaborat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xie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ot always 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ighbou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aiting to return from wor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hare environ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rally un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reliable (recall bias?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cooperativ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143000" y="762120"/>
            <a:ext cx="62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ist potential risk fac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457200" y="2168640"/>
            <a:ext cx="4137120" cy="39970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3"/>
          <p:cNvSpPr/>
          <p:nvPr/>
        </p:nvSpPr>
        <p:spPr>
          <a:xfrm>
            <a:off x="395280" y="2997360"/>
            <a:ext cx="4248000" cy="230328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Recap – confound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838080" y="2971800"/>
            <a:ext cx="7562880" cy="3886200"/>
            <a:chOff x="838080" y="2971800"/>
            <a:chExt cx="7562880" cy="3886200"/>
          </a:xfrm>
        </p:grpSpPr>
        <p:sp>
          <p:nvSpPr>
            <p:cNvPr id="208" name="Oval 3"/>
            <p:cNvSpPr/>
            <p:nvPr/>
          </p:nvSpPr>
          <p:spPr>
            <a:xfrm>
              <a:off x="1066680" y="5257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cc"/>
                  </a:solidFill>
                  <a:latin typeface="Tahoma"/>
                </a:rPr>
                <a:t>smoking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4"/>
            <p:cNvSpPr/>
            <p:nvPr/>
          </p:nvSpPr>
          <p:spPr>
            <a:xfrm>
              <a:off x="838080" y="2971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Physical 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activit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6248520" y="3353040"/>
              <a:ext cx="2152440" cy="703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cc00"/>
                  </a:solidFill>
                  <a:latin typeface="Arial"/>
                </a:rPr>
                <a:t>mortality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24080" y="342900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AutoShape 7"/>
            <p:cNvSpPr/>
            <p:nvPr/>
          </p:nvSpPr>
          <p:spPr>
            <a:xfrm rot="20229600">
              <a:off x="3352680" y="449568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>
              <a:off x="1600200" y="4648320"/>
              <a:ext cx="457200" cy="457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Rectangle 9"/>
          <p:cNvSpPr/>
          <p:nvPr/>
        </p:nvSpPr>
        <p:spPr>
          <a:xfrm>
            <a:off x="4802040" y="502920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confoun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457200" y="12952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A variable is a confounder if it is associated with the outcome of interest (death) and independently with the risk factor of interest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We are interested in the relationship between physical activity and CHD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Infant death. Smoking is also associated with CHD, and smoking and physical activity are associated with each other. Smoking is therefore a confoun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of the relationship between physical activity and CHD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1054800" y="609480"/>
            <a:ext cx="2454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onfound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ac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600200" y="2209680"/>
            <a:ext cx="3124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estri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c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Stratifie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Multiple reg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0" name="Picture 4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"/>
          <p:cNvSpPr/>
          <p:nvPr/>
        </p:nvSpPr>
        <p:spPr>
          <a:xfrm>
            <a:off x="317520" y="720000"/>
            <a:ext cx="86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tching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43434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12"/>
          <p:cNvSpPr/>
          <p:nvPr/>
        </p:nvSpPr>
        <p:spPr>
          <a:xfrm>
            <a:off x="586728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75438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 avoid confoun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e and se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difficult to analy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ssible to ‘overmatch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ssessing Causalit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tatistically significant Odds Ratios show that there are associations between the risk factor (physical activity) and the disease (CHD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y don’t prove this relationship is caus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12024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Criteria for assessing causality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(Bradford Hill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xposure before onset of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trength of associ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ependence from confound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in different populations with different levels of expo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with different studies in different setting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ose-response relationshi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Biologically plausi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vidence from anima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moval of exposure reduces ris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Strength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ood for study of rare dise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Long latent perio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an look at multiple risk factors for a single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Quicker and cheaper than cohort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1984680" y="304920"/>
            <a:ext cx="45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Times New Roman"/>
              </a:rPr>
              <a:t>Case-control studi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- summa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efficient for the evaluation of rare exposu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lection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asurement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all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fficult to interpre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incidence r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‘causation’, only associ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1598040" y="2743200"/>
            <a:ext cx="21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294200" y="5486400"/>
            <a:ext cx="267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ithou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Differences between cohort studies and case-contro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s – start with expos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s – start with dise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Rectangle 1028"/>
          <p:cNvSpPr/>
          <p:nvPr/>
        </p:nvSpPr>
        <p:spPr>
          <a:xfrm>
            <a:off x="914400" y="289548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Line 1029"/>
          <p:cNvSpPr/>
          <p:nvPr/>
        </p:nvSpPr>
        <p:spPr>
          <a:xfrm>
            <a:off x="2514600" y="3276720"/>
            <a:ext cx="35053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030"/>
          <p:cNvSpPr/>
          <p:nvPr/>
        </p:nvSpPr>
        <p:spPr>
          <a:xfrm>
            <a:off x="6172200" y="289548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1031"/>
          <p:cNvSpPr/>
          <p:nvPr/>
        </p:nvSpPr>
        <p:spPr>
          <a:xfrm>
            <a:off x="1066680" y="502920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1033"/>
          <p:cNvSpPr/>
          <p:nvPr/>
        </p:nvSpPr>
        <p:spPr>
          <a:xfrm>
            <a:off x="6172200" y="502920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Line 1034"/>
          <p:cNvSpPr/>
          <p:nvPr/>
        </p:nvSpPr>
        <p:spPr>
          <a:xfrm>
            <a:off x="2590920" y="5486400"/>
            <a:ext cx="35049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art by defining a CA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47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nical definition may be insuffici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of criteri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roducibil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rtainty of diagnosi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ven, very likely, possi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ld, Moderate, Sev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UALLY INCIDENT CASES (newly diagnos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27"/>
          <p:cNvSpPr/>
          <p:nvPr/>
        </p:nvSpPr>
        <p:spPr>
          <a:xfrm>
            <a:off x="1295280" y="20574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How man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1028"/>
          <p:cNvSpPr/>
          <p:nvPr/>
        </p:nvSpPr>
        <p:spPr>
          <a:xfrm>
            <a:off x="1295280" y="4876920"/>
            <a:ext cx="24386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imes New Roman"/>
              </a:rPr>
              <a:t>How many controls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1029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30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34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3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3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4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842760"/>
            <a:ext cx="7683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How many cases and controls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sed o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vailability of cases and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the main risk facto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view the prevalence of the risk factor in the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at would be the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valenc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the risk factor in c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pi-Info -  ask a statistici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pected differen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62120" y="2286000"/>
          <a:ext cx="4797360" cy="25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479736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4"/>
          <p:cNvSpPr/>
          <p:nvPr/>
        </p:nvSpPr>
        <p:spPr>
          <a:xfrm>
            <a:off x="5924160" y="1717560"/>
            <a:ext cx="2980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ontro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tional statist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ious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ey infor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mon sen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0" y="51814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epi-inf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2819520" y="2514600"/>
            <a:ext cx="0" cy="14479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14:35:09Z</dcterms:created>
  <dc:creator>lcuevas</dc:creator>
  <dc:description/>
  <dc:language>en-US</dc:language>
  <cp:lastModifiedBy>Computing Services</cp:lastModifiedBy>
  <cp:lastPrinted>2006-01-24T10:39:16Z</cp:lastPrinted>
  <dcterms:modified xsi:type="dcterms:W3CDTF">2008-04-11T07:33:45Z</dcterms:modified>
  <cp:revision>34</cp:revision>
  <dc:subject/>
  <dc:title>No Slide Title</dc:title>
</cp:coreProperties>
</file>