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1567-29F6-41C0-96F7-9FDADD00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4BE3-16D2-410C-BB32-00BC62CE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1FAE-C362-4518-806D-8436520F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F061-6445-4D55-ADE1-CA1D0505A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71A-72F4-4F97-B534-813D528B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2614-F985-4AAB-A96B-4C84A6EE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FB1D-8EC1-46B7-8A94-40BB5831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C185-A08A-4FB3-AED0-7754E92F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CBEC-2BCE-4F1E-9DCD-F56E4BFE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03A7-1193-4F47-BBE8-C2E2DBDF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E49E-B221-45E7-ACD3-2584BC5F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DDEA-6F9A-469C-AE73-360EDCC5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F75C-629C-4E31-B764-4FCC9E69A07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Cohort and longitudinal studies: statistic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Kath Bennet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IE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June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4" descr="logomariecurie"/>
          <p:cNvPicPr/>
          <p:nvPr/>
        </p:nvPicPr>
        <p:blipFill>
          <a:blip r:embed="rId1"/>
          <a:stretch/>
        </p:blipFill>
        <p:spPr>
          <a:xfrm>
            <a:off x="900000" y="476280"/>
            <a:ext cx="1905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Case fatality 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ually expressed as the percentage of persons diagnosed as having a specified disease who die as a result of that illness within a given peri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Sometimes 30-day or 1 year case-fatality rates quo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case-fatality rate is not the same as mortality r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 also referred to as fatality rate or case-fatality rat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elative 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lative rate is ratio of 2 r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.e. (rate group 1)/(rate group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known as rate rat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, rate for CHD in men calculated as 1.76 per 1000 in 1995, and 0.483 per 1000 in wom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lative rate =1.76/0.483 =3.6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ortality from lung cancer by </a:t>
            </a:r>
            <a:br>
              <a:rPr sz="4400"/>
            </a:b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5-year age-ban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4" descr="epimortlungcancer"/>
          <p:cNvPicPr/>
          <p:nvPr/>
        </p:nvPicPr>
        <p:blipFill>
          <a:blip r:embed="rId1"/>
          <a:stretch/>
        </p:blipFill>
        <p:spPr>
          <a:xfrm>
            <a:off x="457200" y="1295280"/>
            <a:ext cx="792468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Standardised 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Arial"/>
              </a:rPr>
              <a:t>Direct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quires a standard population to which age-specific rates are ap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ltiply age-specific rates in pops A &amp;B by standard population then comp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age-specific rates for populations not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sed on applying age-specific rates for standard population to population of interest to determine ‘expected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ised Mortality Ratio (SMR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Total Observed deaths / Total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Direct standardisation – raw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-609480" y="1447920"/>
          <a:ext cx="10815480" cy="569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1447920"/>
                    <a:ext cx="10815480" cy="56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Direct standardis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-457200" y="1579680"/>
          <a:ext cx="10379160" cy="52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1579680"/>
                    <a:ext cx="10379160" cy="52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-1446120" y="996840"/>
          <a:ext cx="11163240" cy="54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6120" y="996840"/>
                    <a:ext cx="1116324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served 1781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 = 1781/2032.5 = 0.87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&gt;1  more deaths than 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&lt;1 less deaths than 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multiplied by 10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Examples of cohort stud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Framingham study. Cohort of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5,209 men and women  in 1948 between the ages of 30 and 62 from the town of Framingham, Massachusetts, to examine CVD development, returning every two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British doctors study. Cohort of male doctors started in 1951 to examine smoking and related mortality (Doll and Hill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illion Women Study. Cohort of 1 million women asked about HRT use and followed up for cancer inci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24000" y="1197000"/>
          <a:ext cx="7127640" cy="54864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2985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ersons free of dise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s who develop disease over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s who do not develop disease over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osed to risk fa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exposed to risk fa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+c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40"/>
          <p:cNvSpPr/>
          <p:nvPr/>
        </p:nvSpPr>
        <p:spPr>
          <a:xfrm>
            <a:off x="1042920" y="189000"/>
            <a:ext cx="741672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ata from a cohort study are expressed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2268360" y="765000"/>
            <a:ext cx="38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Follow-up to see wheth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3"/>
          <p:cNvSpPr/>
          <p:nvPr/>
        </p:nvSpPr>
        <p:spPr>
          <a:xfrm>
            <a:off x="7451640" y="2565360"/>
            <a:ext cx="181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Arial"/>
              </a:rPr>
              <a:t>Incidence in exposed (IE)=a/a+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4"/>
          <p:cNvSpPr/>
          <p:nvPr/>
        </p:nvSpPr>
        <p:spPr>
          <a:xfrm>
            <a:off x="7524720" y="4005360"/>
            <a:ext cx="181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Arial"/>
              </a:rPr>
              <a:t>Incidence in unexposed (IO)=c/c+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Statistical method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Prevalence, Incid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ates, standardised rates, case fatality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elative rates/ri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Attributable risk and Attributable risk f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egression and beta coeffic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Data from cohort studies are analyzed in terms of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Relative risk (RR)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ncidence rate in the exposed group (IE)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idence rate in the non-exposed group (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risks significantly higher than 1 imply that the factor under study is associated with an increased risk of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risks significantly lower than 1 imply that the factor is  associated with a decreased risk of diseas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magnitude of the relative risk indicates the strength of the associ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3436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ttributable Risk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748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tributable risk implies that not all of the disease incidence is due to the exposure, as some nonexposed individuals may develop 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O (Incidence in nonexposed group) = 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"background incidence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E (Incidence in exposed group) = ”background incidence”+ Incidence due to the exposure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fore, the incidence in the exposed group which is attributable to the exposure can be calculated by subtract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tributable risk (AR): AR = IE – 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0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Attributable risk percent: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539640" y="1413000"/>
            <a:ext cx="882036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percentage of the total incidence in the exposed group which is attributable to the exposure can be calcula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R%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IE - I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 10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t cut also = (RR-1)/R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97164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Population is not all expo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06668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cases per 1000 population are   attributable to the exposu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we know the Incidence in the total population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x (1-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is the Prevalenc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 the expos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Attributable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=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cut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 X P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Populat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2803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roportion of the risk in the total population is attributab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Attributable Risk %,PAR%, P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nominator is the risk in the total population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 The numerator is the “extra” risk (PAR) which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% =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Io)/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%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R-1)/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R-1)+1]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Verdana"/>
              </a:rPr>
              <a:t>Example: Cohort study of smoking and coronary heart disea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Verdana"/>
              </a:rPr>
              <a:t>Cohort of initially healthy peo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evelop CHD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on't Develop CHD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otal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mokers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84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2916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3000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Non-smokers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87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4913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5000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Smokers = 84/3000 = 28.0 per 1,000/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Non-Smokers = 87/5000 = 17.4 per 1,000/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R =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Verdana"/>
              </a:rPr>
              <a:t>Incidence in Smokers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Verdana"/>
              </a:rPr>
              <a:t>28.0/1000/yr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= 1.6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Non-Smokers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17.4/1000/yr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Example: Attributable ri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 (incidence in exposed group attributable to the exposu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Incidence in Smokers - Incidence in Non-Smok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28.0 - 17.4 = 10.6/1000/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%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% total incidence in exposed grp attributable to exposu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ncidence in Smokers - Incidence in Non-Smoker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x 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idence in Sm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(28.0 - 17.4) x 10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10.6 x 10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 = 37.9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8.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8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7.9% of the morbidity from CHD among smokers may be attributable to smok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Example: Population AR (PAR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137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pulation Attributable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=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 X 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e prevalence of smoking in the population is 40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calculate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-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= 21.6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.6/1000 – 17.4/1000 =4.2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= AR X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(10.6/1000)X 0.4 =4.2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pulation Attributable Risk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[(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/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= (21.6-17.4)/21.6 = 19.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PAR%=(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R-1) / [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R-1)+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0.4*(1.6-1)/[0.4*(1.6-1)+1]=19.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Methods to account for varying lengths of follow-up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nce participants may enter or leave the study at various times due to death, emmigration or loss to follow-up, the time of observation is usually not uniform. This is accounted for by main metho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Person - years of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Life - table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urvival analysis, Cox proportional haz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easuring disease/drug frequ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Prevalence is the </a:t>
            </a:r>
            <a:r>
              <a:rPr b="0" i="1" lang="en-IE" sz="3200" spc="-1" strike="noStrike">
                <a:solidFill>
                  <a:srgbClr val="ffffff"/>
                </a:solidFill>
                <a:latin typeface="Arial"/>
              </a:rPr>
              <a:t>proportion of a population that are cases at on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no of existing cases with disease/on dru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tal population in same time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e.g birth defect prevalence rate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no of births with given abnorm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tal number of live bir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Line 4"/>
          <p:cNvSpPr/>
          <p:nvPr/>
        </p:nvSpPr>
        <p:spPr>
          <a:xfrm>
            <a:off x="1447920" y="3886200"/>
            <a:ext cx="5715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1295280" y="5943600"/>
            <a:ext cx="5181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Is the linear relationship reasonab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09624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In broad terms, regression can be thought of as a statistical model which is used to help us get the ‘best guess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Formally, we assume that there is an underlying linear relationship between the variables, and our observations lie scattered about that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e actual value of ‘Y’ is ‘scattered’ about the expected or predicted value of 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Linear Model Illustra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508720" y="1988640"/>
            <a:ext cx="3457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Line is ‘best’ fit in statistical s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catter is called </a:t>
            </a: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residual 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varia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6483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843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 equ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1128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e equation of a line can be written 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E[Y] = a + bX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a = intercept (where line cuts Y ax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b = slope of the line (can be +ve or –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oftware fits the ‘best guess’ for a and b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68360" y="4437000"/>
            <a:ext cx="8675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Regression Analysis: Leaving versus M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The regression equa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Leaving = </a:t>
            </a:r>
            <a:r>
              <a:rPr b="1" lang="en-GB" sz="1800" spc="-1" strike="noStrike">
                <a:solidFill>
                  <a:srgbClr val="00cc99"/>
                </a:solidFill>
                <a:latin typeface="Courier New"/>
              </a:rPr>
              <a:t>7.75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+ </a:t>
            </a:r>
            <a:r>
              <a:rPr b="1" lang="en-GB" sz="1800" spc="-1" strike="noStrike">
                <a:solidFill>
                  <a:srgbClr val="ff7c80"/>
                </a:solidFill>
                <a:latin typeface="Courier New"/>
              </a:rPr>
              <a:t>0.817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M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Predictor        Coef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S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T       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Constant        7.749       3.122       2.48    0.0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Mock          0.81749     0.04284      19.08    0.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More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Is there an effect of gend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at is can one consider different lines for red and blu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hould these lines be parallel or n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What about ‘adjusting’ for other covariates such as age or ‘intelligence’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More than one variable = multiple linear reg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Incidence is the </a:t>
            </a:r>
            <a:r>
              <a:rPr b="0" i="1" lang="en-IE" sz="2800" spc="-1" strike="noStrike">
                <a:solidFill>
                  <a:srgbClr val="ffffff"/>
                </a:solidFill>
                <a:latin typeface="Arial"/>
              </a:rPr>
              <a:t>rate at which new cases occur in a population during a specified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mber of new cases/starting on therapy in peri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pulation at risk in given peri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Bacteremia among OC users in study of 482 using OC, 27 developed bacterem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idence= (27/482)*100=5.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easuring disease/drug frequ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Line 4"/>
          <p:cNvSpPr/>
          <p:nvPr/>
        </p:nvSpPr>
        <p:spPr>
          <a:xfrm>
            <a:off x="1116000" y="335772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ter-relation between incidence and preval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valence = incidence* average d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Rates commonly used in epidem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ccff"/>
                </a:solidFill>
                <a:latin typeface="Arial"/>
              </a:rPr>
              <a:t>Crude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ntire population eg. Total deaths/po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Category specific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e.g. age-specific, gender-specif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g. Cancer rates by age-category, 35-44, 45-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Age-adjust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standardis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ows for appropriate comparison when differing populations being studies. Reduces distortions in comparison due to age differences in popul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572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d to quantify the risk in a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umerator is number of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nominator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ulation at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-years at risk or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ually presented as per 1000 persons or 1000 person-years at ri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vided the disease/event occurs randomly and independently, reasonable to assume follow Poisson distribu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imated standard error of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 (rate)=number of events /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 at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x 95% CI for number events (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(1.96/2 -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)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(1.96/2 +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E+1))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x 95% CI for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wer CI= 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/Pop,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pper CI= 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/P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he number of deaths from CHD in Scottish men in 1995 was 1080, total population of men 61295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ate of CHD deaths per 1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080/612955)*1000 = 1.7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% CI for number of death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(1.96/2 -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80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1016.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(1.96/2 +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81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1146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% CI for rate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16.55/612955 , 1146.4/6129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.66, 1.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14:33:02Z</dcterms:created>
  <dc:creator>bmaguire</dc:creator>
  <dc:description/>
  <dc:language>en-US</dc:language>
  <cp:lastModifiedBy>Computing Services</cp:lastModifiedBy>
  <dcterms:modified xsi:type="dcterms:W3CDTF">2008-04-10T12:31:18Z</dcterms:modified>
  <cp:revision>77</cp:revision>
  <dc:subject/>
  <dc:title>Trial design</dc:title>
</cp:coreProperties>
</file>